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8.xml.rels" ContentType="application/vnd.openxmlformats-package.relationships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27.wmf" ContentType="image/x-wmf"/>
  <Override PartName="/ppt/media/image26.wmf" ContentType="image/x-wmf"/>
  <Override PartName="/ppt/media/image23.png" ContentType="image/png"/>
  <Override PartName="/ppt/media/image22.png" ContentType="image/png"/>
  <Override PartName="/ppt/media/image20.jpeg" ContentType="image/jpeg"/>
  <Override PartName="/ppt/media/image19.png" ContentType="image/png"/>
  <Override PartName="/ppt/media/image21.png" ContentType="image/png"/>
  <Override PartName="/ppt/media/image18.jpeg" ContentType="image/jpeg"/>
  <Override PartName="/ppt/media/image15.png" ContentType="image/png"/>
  <Override PartName="/ppt/media/image17.wmf" ContentType="image/x-wmf"/>
  <Override PartName="/ppt/media/image16.wmf" ContentType="image/x-wmf"/>
  <Override PartName="/ppt/media/image45.jpeg" ContentType="image/jpeg"/>
  <Override PartName="/ppt/media/image14.jpeg" ContentType="image/jpeg"/>
  <Override PartName="/ppt/media/image24.png" ContentType="image/png"/>
  <Override PartName="/ppt/media/image31.gif" ContentType="image/gif"/>
  <Override PartName="/ppt/media/image1.png" ContentType="image/png"/>
  <Override PartName="/ppt/media/image2.wmf" ContentType="image/x-wmf"/>
  <Override PartName="/ppt/media/image10.png" ContentType="image/png"/>
  <Override PartName="/ppt/media/image30.wmf" ContentType="image/x-wmf"/>
  <Override PartName="/ppt/media/image6.jpeg" ContentType="image/jpeg"/>
  <Override PartName="/ppt/media/image28.wmf" ContentType="image/x-wmf"/>
  <Override PartName="/ppt/media/image34.png" ContentType="image/png"/>
  <Override PartName="/ppt/media/image44.jpeg" ContentType="image/jpeg"/>
  <Override PartName="/ppt/media/image36.png" ContentType="image/png"/>
  <Override PartName="/ppt/media/image38.png" ContentType="image/png"/>
  <Override PartName="/ppt/media/image39.png" ContentType="image/png"/>
  <Override PartName="/ppt/media/image42.png" ContentType="image/png"/>
  <Override PartName="/ppt/media/image11.png" ContentType="image/png"/>
  <Override PartName="/ppt/media/image35.png" ContentType="image/png"/>
  <Override PartName="/ppt/media/image5.jpeg" ContentType="image/jpeg"/>
  <Override PartName="/ppt/media/image46.wmf" ContentType="image/x-wmf"/>
  <Override PartName="/ppt/media/image43.png" ContentType="image/png"/>
  <Override PartName="/ppt/media/image47.jpeg" ContentType="image/jpeg"/>
  <Override PartName="/ppt/media/image12.wmf" ContentType="image/x-wmf"/>
  <Override PartName="/ppt/media/image13.wmf" ContentType="image/x-wmf"/>
  <Override PartName="/ppt/media/image29.jpeg" ContentType="image/jpeg"/>
  <Override PartName="/ppt/media/image37.png" ContentType="image/png"/>
  <Override PartName="/ppt/media/image7.png" ContentType="image/png"/>
  <Override PartName="/ppt/media/image41.png" ContentType="image/png"/>
  <Override PartName="/ppt/media/image9.wmf" ContentType="image/x-wmf"/>
  <Override PartName="/ppt/media/image40.png" ContentType="image/png"/>
  <Override PartName="/ppt/media/image8.wmf" ContentType="image/x-wmf"/>
  <Override PartName="/ppt/media/image4.jpeg" ContentType="image/jpeg"/>
  <Override PartName="/ppt/media/image32.png" ContentType="image/png"/>
  <Override PartName="/ppt/media/image25.jpeg" ContentType="image/jpeg"/>
  <Override PartName="/ppt/media/image3.png" ContentType="image/png"/>
  <Override PartName="/ppt/media/image3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7307263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782400" cy="991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3688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3"/>
          </p:nvPr>
        </p:nvSpPr>
        <p:spPr>
          <a:xfrm>
            <a:off x="3844800" y="0"/>
            <a:ext cx="293688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064880" y="743040"/>
            <a:ext cx="4653000" cy="3719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57c1"/>
                </a:solidFill>
                <a:latin typeface="Tahoma"/>
              </a:rPr>
              <a:t>Click to move the slide</a:t>
            </a:r>
            <a:endParaRPr b="0" lang="en-US" sz="2800" spc="-1" strike="noStrike">
              <a:solidFill>
                <a:srgbClr val="0f57c1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904680" y="4711680"/>
            <a:ext cx="497196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4"/>
          </p:nvPr>
        </p:nvSpPr>
        <p:spPr>
          <a:xfrm>
            <a:off x="0" y="9421920"/>
            <a:ext cx="293688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5"/>
          </p:nvPr>
        </p:nvSpPr>
        <p:spPr>
          <a:xfrm>
            <a:off x="3844800" y="9421920"/>
            <a:ext cx="293688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B2277-BD20-4B38-B870-4A9F620DF219}" type="slidenum">
              <a:rPr b="0" lang="de-DE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065240" y="743040"/>
            <a:ext cx="4653000" cy="371952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04680" y="4711680"/>
            <a:ext cx="497196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iese Folie ist aus meinem ersten Vortrag und soll aus historischen Gründen erneut gezeigt werd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4DBEDF-1D5D-4D37-9C0F-9417DAC041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26920" y="100080"/>
            <a:ext cx="762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57c1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52360" y="1061640"/>
            <a:ext cx="8640720" cy="27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52360" y="4107960"/>
            <a:ext cx="8640720" cy="27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DA4E92-9258-420D-B2B3-15ABBEDB93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6920" y="100080"/>
            <a:ext cx="762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57c1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52360" y="1061640"/>
            <a:ext cx="4216320" cy="27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80000" y="1061640"/>
            <a:ext cx="4216320" cy="27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52360" y="4107960"/>
            <a:ext cx="4216320" cy="27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80000" y="4107960"/>
            <a:ext cx="4216320" cy="27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8F7AD0-FFED-4E71-9D37-35AD85065D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826920" y="100080"/>
            <a:ext cx="762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57c1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52360" y="1061640"/>
            <a:ext cx="2782080" cy="27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73760" y="1061640"/>
            <a:ext cx="2782080" cy="27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95520" y="1061640"/>
            <a:ext cx="2782080" cy="27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252360" y="4107960"/>
            <a:ext cx="2782080" cy="27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73760" y="4107960"/>
            <a:ext cx="2782080" cy="27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95520" y="4107960"/>
            <a:ext cx="2782080" cy="27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1A54C4-E687-41D7-9491-2B90262DDA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26920" y="100080"/>
            <a:ext cx="762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57c1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252360" y="1061640"/>
            <a:ext cx="8640720" cy="58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26920" y="100080"/>
            <a:ext cx="762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57c1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52360" y="1061640"/>
            <a:ext cx="864072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26920" y="100080"/>
            <a:ext cx="762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57c1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52360" y="1061640"/>
            <a:ext cx="421632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061640"/>
            <a:ext cx="421632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26920" y="100080"/>
            <a:ext cx="762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57c1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826920" y="162000"/>
            <a:ext cx="7629840" cy="18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26920" y="100080"/>
            <a:ext cx="762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57c1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52360" y="1061640"/>
            <a:ext cx="4216320" cy="27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80000" y="1061640"/>
            <a:ext cx="421632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252360" y="4107960"/>
            <a:ext cx="4216320" cy="27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26920" y="100080"/>
            <a:ext cx="762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57c1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252360" y="1061640"/>
            <a:ext cx="8640720" cy="58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0E5E11-16EA-4A35-8459-13999F8870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26920" y="100080"/>
            <a:ext cx="762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57c1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2360" y="1061640"/>
            <a:ext cx="421632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0000" y="1061640"/>
            <a:ext cx="4216320" cy="27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80000" y="4107960"/>
            <a:ext cx="4216320" cy="27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26920" y="100080"/>
            <a:ext cx="762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57c1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52360" y="1061640"/>
            <a:ext cx="4216320" cy="27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0000" y="1061640"/>
            <a:ext cx="4216320" cy="27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52360" y="4107960"/>
            <a:ext cx="8640720" cy="27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26920" y="100080"/>
            <a:ext cx="762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57c1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52360" y="1061640"/>
            <a:ext cx="8640720" cy="27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252360" y="4107960"/>
            <a:ext cx="8640720" cy="27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26920" y="100080"/>
            <a:ext cx="762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57c1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52360" y="1061640"/>
            <a:ext cx="4216320" cy="27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80000" y="1061640"/>
            <a:ext cx="4216320" cy="27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252360" y="4107960"/>
            <a:ext cx="4216320" cy="27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80000" y="4107960"/>
            <a:ext cx="4216320" cy="27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26920" y="100080"/>
            <a:ext cx="762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57c1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52360" y="1061640"/>
            <a:ext cx="2782080" cy="27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173760" y="1061640"/>
            <a:ext cx="2782080" cy="27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95520" y="1061640"/>
            <a:ext cx="2782080" cy="27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252360" y="4107960"/>
            <a:ext cx="2782080" cy="27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173760" y="4107960"/>
            <a:ext cx="2782080" cy="27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95520" y="4107960"/>
            <a:ext cx="2782080" cy="27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6920" y="100080"/>
            <a:ext cx="762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57c1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52360" y="1061640"/>
            <a:ext cx="864072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615AD9-0203-4FD6-BEF2-17852687C8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6920" y="100080"/>
            <a:ext cx="762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57c1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52360" y="1061640"/>
            <a:ext cx="421632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061640"/>
            <a:ext cx="421632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1DF174-0013-459C-8ED3-686F487AFE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26920" y="100080"/>
            <a:ext cx="762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57c1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183C25-5CF7-4E18-A7FC-C6CBF7F88D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826920" y="162000"/>
            <a:ext cx="7629840" cy="18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9F7F15-B444-4709-BE1E-5A253A542F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26920" y="100080"/>
            <a:ext cx="762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57c1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52360" y="1061640"/>
            <a:ext cx="4216320" cy="27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1640"/>
            <a:ext cx="421632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252360" y="4107960"/>
            <a:ext cx="4216320" cy="27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A154EA-2AF9-49CB-81A8-CA5AB6CBDF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26920" y="100080"/>
            <a:ext cx="762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57c1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52360" y="1061640"/>
            <a:ext cx="421632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1640"/>
            <a:ext cx="4216320" cy="27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80000" y="4107960"/>
            <a:ext cx="4216320" cy="27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16E322-D286-4D37-B676-2B0FC98477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26920" y="100080"/>
            <a:ext cx="762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57c1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52360" y="1061640"/>
            <a:ext cx="4216320" cy="27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0000" y="1061640"/>
            <a:ext cx="4216320" cy="27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52360" y="4107960"/>
            <a:ext cx="8640720" cy="27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E26B8C-35E4-44EF-9FEE-324169D72E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9176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826920" y="162000"/>
            <a:ext cx="7629840" cy="39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abaaa9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57c1"/>
                </a:solidFill>
                <a:latin typeface="Tahoma"/>
              </a:rPr>
              <a:t>Click to edit the title text format</a:t>
            </a:r>
            <a:endParaRPr b="0" lang="en-US" sz="2800" spc="-1" strike="noStrike">
              <a:solidFill>
                <a:srgbClr val="0f57c1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52360" y="1061640"/>
            <a:ext cx="864072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451"/>
              </a:spcBef>
              <a:buClr>
                <a:srgbClr val="c18e6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62120" indent="-190440">
              <a:spcBef>
                <a:spcPts val="451"/>
              </a:spcBef>
              <a:buClr>
                <a:srgbClr val="fcad5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190440">
              <a:spcBef>
                <a:spcPts val="451"/>
              </a:spcBef>
              <a:buClr>
                <a:srgbClr val="f4d1a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523880" indent="-190440">
              <a:spcBef>
                <a:spcPts val="451"/>
              </a:spcBef>
              <a:buClr>
                <a:srgbClr val="257796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905120" indent="-190440">
              <a:spcBef>
                <a:spcPts val="451"/>
              </a:spcBef>
              <a:buClr>
                <a:srgbClr val="5e99aa"/>
              </a:buClr>
              <a:buSzPct val="8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905120" indent="-1904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905120" indent="-1904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27120" y="6983280"/>
            <a:ext cx="6075360" cy="3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abaaa9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abaaa9"/>
                </a:solidFill>
                <a:latin typeface="Tahoma"/>
              </a:rPr>
              <a:t>Beam Diagnostics Seminar, Nov.05, 20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086240" y="6983280"/>
            <a:ext cx="2057400" cy="3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abaaa9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E2BB1-7FA4-4C89-8217-199F5AFF12B6}" type="slidenum">
              <a:rPr b="0" lang="de-DE" sz="1400" spc="-1" strike="noStrike">
                <a:solidFill>
                  <a:srgbClr val="abaaa9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8028000" y="6894360"/>
            <a:ext cx="647640" cy="21276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8763120" y="7039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flipH="1">
            <a:off x="-360" y="7039080"/>
            <a:ext cx="7924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7004160"/>
            <a:ext cx="15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257796"/>
                </a:solidFill>
                <a:latin typeface="Times New Roman"/>
              </a:rPr>
              <a:t>Udo Rau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3005280" y="1882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3525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280" y="163080"/>
            <a:ext cx="8686800" cy="730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abaaa9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57c1"/>
                </a:solidFill>
                <a:latin typeface="Tahoma"/>
              </a:rPr>
              <a:t>Click to edit the title text format</a:t>
            </a:r>
            <a:endParaRPr b="0" lang="en-US" sz="2800" spc="-1" strike="noStrike">
              <a:solidFill>
                <a:srgbClr val="0f57c1"/>
              </a:solidFill>
              <a:latin typeface="Tahoma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1055520"/>
            <a:ext cx="1600200" cy="30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16480" y="1017720"/>
            <a:ext cx="472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Beam Diagnostics Seminar, Nov.05, 20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710000"/>
            <a:ext cx="8229240" cy="42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38160" algn="ctr">
              <a:spcBef>
                <a:spcPts val="349"/>
              </a:spcBef>
              <a:buClr>
                <a:srgbClr val="f4d1af"/>
              </a:buClr>
              <a:buSzPct val="90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3" marL="1333440" algn="ctr">
              <a:spcBef>
                <a:spcPts val="300"/>
              </a:spcBef>
              <a:buClr>
                <a:srgbClr val="257796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4" marL="1714680" algn="ctr">
              <a:spcBef>
                <a:spcPts val="249"/>
              </a:spcBef>
              <a:buClr>
                <a:srgbClr val="5e99aa"/>
              </a:buClr>
              <a:buSzPct val="80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5" marL="1714680">
              <a:spcBef>
                <a:spcPts val="249"/>
              </a:spcBef>
              <a:buClr>
                <a:srgbClr val="000000"/>
              </a:buClr>
              <a:buSzPct val="8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6" marL="1714680">
              <a:spcBef>
                <a:spcPts val="249"/>
              </a:spcBef>
              <a:buClr>
                <a:srgbClr val="000000"/>
              </a:buClr>
              <a:buSzPct val="8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wmf"/><Relationship Id="rId3" Type="http://schemas.openxmlformats.org/officeDocument/2006/relationships/image" Target="../media/image27.wmf"/><Relationship Id="rId4" Type="http://schemas.openxmlformats.org/officeDocument/2006/relationships/image" Target="../media/image8.wmf"/><Relationship Id="rId5" Type="http://schemas.openxmlformats.org/officeDocument/2006/relationships/image" Target="../media/image28.wmf"/><Relationship Id="rId6" Type="http://schemas.openxmlformats.org/officeDocument/2006/relationships/image" Target="../media/image9.wmf"/><Relationship Id="rId7" Type="http://schemas.openxmlformats.org/officeDocument/2006/relationships/image" Target="../media/image29.jpeg"/><Relationship Id="rId8" Type="http://schemas.openxmlformats.org/officeDocument/2006/relationships/oleObject" Target="../embeddings/oleObject1.bin"/><Relationship Id="rId9" Type="http://schemas.openxmlformats.org/officeDocument/2006/relationships/image" Target="../media/image12.wmf"/><Relationship Id="rId10" Type="http://schemas.openxmlformats.org/officeDocument/2006/relationships/oleObject" Target="../embeddings/oleObject2.bin"/><Relationship Id="rId11" Type="http://schemas.openxmlformats.org/officeDocument/2006/relationships/image" Target="../media/image30.wmf"/><Relationship Id="rId12" Type="http://schemas.openxmlformats.org/officeDocument/2006/relationships/image" Target="../media/image31.gif"/><Relationship Id="rId13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8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8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slideLayout" Target="../slideLayouts/slideLayout8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wmf"/><Relationship Id="rId3" Type="http://schemas.openxmlformats.org/officeDocument/2006/relationships/image" Target="../media/image27.wmf"/><Relationship Id="rId4" Type="http://schemas.openxmlformats.org/officeDocument/2006/relationships/image" Target="../media/image8.wmf"/><Relationship Id="rId5" Type="http://schemas.openxmlformats.org/officeDocument/2006/relationships/image" Target="../media/image28.wmf"/><Relationship Id="rId6" Type="http://schemas.openxmlformats.org/officeDocument/2006/relationships/image" Target="../media/image9.wmf"/><Relationship Id="rId7" Type="http://schemas.openxmlformats.org/officeDocument/2006/relationships/image" Target="../media/image44.jpeg"/><Relationship Id="rId8" Type="http://schemas.openxmlformats.org/officeDocument/2006/relationships/image" Target="../media/image45.jpeg"/><Relationship Id="rId9" Type="http://schemas.openxmlformats.org/officeDocument/2006/relationships/image" Target="../media/image29.jpeg"/><Relationship Id="rId10" Type="http://schemas.openxmlformats.org/officeDocument/2006/relationships/oleObject" Target="../embeddings/oleObject1.bin"/><Relationship Id="rId11" Type="http://schemas.openxmlformats.org/officeDocument/2006/relationships/image" Target="../media/image12.wmf"/><Relationship Id="rId12" Type="http://schemas.openxmlformats.org/officeDocument/2006/relationships/oleObject" Target="../embeddings/oleObject2.bin"/><Relationship Id="rId13" Type="http://schemas.openxmlformats.org/officeDocument/2006/relationships/image" Target="../media/image30.wmf"/><Relationship Id="rId14" Type="http://schemas.openxmlformats.org/officeDocument/2006/relationships/slideLayout" Target="../slideLayouts/slideLayout11.xml"/><Relationship Id="rId15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40160" y="2540160"/>
            <a:ext cx="126720" cy="12672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12480" y="1992240"/>
            <a:ext cx="8172360" cy="1727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abaaa9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f57c1"/>
                </a:solidFill>
                <a:latin typeface="Tahoma"/>
              </a:rPr>
              <a:t>Das Tune-Meßverfahren für das neue POSI am SIS-18</a:t>
            </a:r>
            <a:endParaRPr b="0" lang="en-US" sz="2800" spc="-1" strike="noStrike">
              <a:solidFill>
                <a:srgbClr val="0f57c1"/>
              </a:solidFill>
              <a:latin typeface="Tahoma"/>
            </a:endParaRPr>
          </a:p>
        </p:txBody>
      </p:sp>
      <p:sp>
        <p:nvSpPr>
          <p:cNvPr id="96" name=""/>
          <p:cNvSpPr/>
          <p:nvPr/>
        </p:nvSpPr>
        <p:spPr>
          <a:xfrm>
            <a:off x="4714200" y="5238720"/>
            <a:ext cx="248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 Rau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GSI - Strahldiagn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26920" y="162000"/>
            <a:ext cx="7629840" cy="39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abaaa9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7c1"/>
                </a:solidFill>
                <a:latin typeface="Tahoma"/>
              </a:rPr>
              <a:t>Position determination: windowing</a:t>
            </a:r>
            <a:endParaRPr b="0" lang="en-US" sz="2400" spc="-1" strike="noStrike">
              <a:solidFill>
                <a:srgbClr val="0f57c1"/>
              </a:solidFill>
              <a:latin typeface="Tahoma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811080" y="1073160"/>
            <a:ext cx="7521840" cy="5164200"/>
          </a:xfrm>
          <a:prstGeom prst="rect">
            <a:avLst/>
          </a:prstGeom>
          <a:ln w="0">
            <a:noFill/>
          </a:ln>
        </p:spPr>
      </p:pic>
      <p:grpSp>
        <p:nvGrpSpPr>
          <p:cNvPr id="169" name=""/>
          <p:cNvGrpSpPr/>
          <p:nvPr/>
        </p:nvGrpSpPr>
        <p:grpSpPr>
          <a:xfrm>
            <a:off x="585720" y="6103800"/>
            <a:ext cx="4390560" cy="992160"/>
            <a:chOff x="585720" y="6103800"/>
            <a:chExt cx="4390560" cy="992160"/>
          </a:xfrm>
        </p:grpSpPr>
        <p:sp>
          <p:nvSpPr>
            <p:cNvPr id="170" name=""/>
            <p:cNvSpPr/>
            <p:nvPr/>
          </p:nvSpPr>
          <p:spPr>
            <a:xfrm>
              <a:off x="3104640" y="6392880"/>
              <a:ext cx="18716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= Sondenkonstan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 = Off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71" name=""/>
            <p:cNvGraphicFramePr/>
            <p:nvPr/>
          </p:nvGraphicFramePr>
          <p:xfrm>
            <a:off x="585720" y="6103800"/>
            <a:ext cx="2300040" cy="9921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72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585720" y="6103800"/>
                      <a:ext cx="2300040" cy="992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95566C-4EC6-4E60-9445-080A18A5290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26920" y="162000"/>
            <a:ext cx="7629840" cy="39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abaaa9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7c1"/>
                </a:solidFill>
                <a:latin typeface="Tahoma"/>
              </a:rPr>
              <a:t>Position determination: windowing</a:t>
            </a:r>
            <a:endParaRPr b="0" lang="en-US" sz="2400" spc="-1" strike="noStrike">
              <a:solidFill>
                <a:srgbClr val="0f57c1"/>
              </a:solidFill>
              <a:latin typeface="Tahom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811080" y="1073160"/>
            <a:ext cx="7521840" cy="516420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0" y="969840"/>
            <a:ext cx="7880400" cy="3827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6C2F53-71E2-4827-9E3E-77FAFEEE4E9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26920" y="162000"/>
            <a:ext cx="7629840" cy="39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abaaa9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7c1"/>
                </a:solidFill>
                <a:latin typeface="Tahoma"/>
              </a:rPr>
              <a:t>Results: Position and Tune</a:t>
            </a:r>
            <a:endParaRPr b="0" lang="en-US" sz="2400" spc="-1" strike="noStrike">
              <a:solidFill>
                <a:srgbClr val="0f57c1"/>
              </a:solidFill>
              <a:latin typeface="Tahom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1085760" y="1062000"/>
            <a:ext cx="6972480" cy="583236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5995080" y="6546960"/>
            <a:ext cx="321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Corresponding to 250 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916F9A-CC03-4F5C-BAE2-75D19977426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26920" y="162000"/>
            <a:ext cx="7629840" cy="39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abaaa9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7c1"/>
                </a:solidFill>
                <a:latin typeface="Tahoma"/>
              </a:rPr>
              <a:t>Some results: Beam Position and Tune</a:t>
            </a:r>
            <a:endParaRPr b="0" lang="en-US" sz="2400" spc="-1" strike="noStrike">
              <a:solidFill>
                <a:srgbClr val="0f57c1"/>
              </a:solidFill>
              <a:latin typeface="Tahoma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544680" y="1062000"/>
            <a:ext cx="8056440" cy="583236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5995080" y="6508800"/>
            <a:ext cx="321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Corresponding to 250 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0BEC5F-2970-48E8-8495-EB885B9450A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26920" y="162000"/>
            <a:ext cx="7629840" cy="39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abaaa9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7c1"/>
                </a:solidFill>
                <a:latin typeface="Tahoma"/>
              </a:rPr>
              <a:t>Beam Excitation using Noise Generator</a:t>
            </a:r>
            <a:endParaRPr b="0" lang="en-US" sz="2400" spc="-1" strike="noStrike">
              <a:solidFill>
                <a:srgbClr val="0f57c1"/>
              </a:solidFill>
              <a:latin typeface="Tahoma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0" y="3656160"/>
            <a:ext cx="4572000" cy="347472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0" y="1019160"/>
            <a:ext cx="9144000" cy="268128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5063400" y="4525920"/>
            <a:ext cx="3455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requency spectrum of noise exci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tched to RF thus exciting directl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on sideba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854C9F-3EF3-42BF-85CA-E96712E4723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26920" y="162000"/>
            <a:ext cx="7629840" cy="39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abaaa9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f57c1"/>
                </a:solidFill>
                <a:latin typeface="Tahoma"/>
              </a:rPr>
              <a:t>Beam excitation w noise</a:t>
            </a:r>
            <a:endParaRPr b="0" lang="en-US" sz="2800" spc="-1" strike="noStrike">
              <a:solidFill>
                <a:srgbClr val="0f57c1"/>
              </a:solidFill>
              <a:latin typeface="Tahoma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407880" y="1062000"/>
            <a:ext cx="6201000" cy="583236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6878160" y="2351160"/>
            <a:ext cx="2032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rgon18+ bea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1 -&gt; 300 Me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bout 1e10 partic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D91CA5-9189-4055-87DE-466B29E7D48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26920" y="162000"/>
            <a:ext cx="7629840" cy="39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abaaa9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7c1"/>
                </a:solidFill>
                <a:latin typeface="Tahoma"/>
              </a:rPr>
              <a:t>Beam Excitation using Noise Generator</a:t>
            </a:r>
            <a:endParaRPr b="0" lang="en-US" sz="2400" spc="-1" strike="noStrike">
              <a:solidFill>
                <a:srgbClr val="0f57c1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52000" y="1061640"/>
            <a:ext cx="424332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400"/>
              </a:spcBef>
              <a:buClr>
                <a:srgbClr val="c18e6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Keeping noise as low as possible: using the IPM (Ionizing Profile Monitor) in order to estimate disturbance of beam profile by noise excitatio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2324160"/>
            <a:ext cx="3084480" cy="446868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4829040" y="816120"/>
            <a:ext cx="3929040" cy="28400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3"/>
          <a:stretch/>
        </p:blipFill>
        <p:spPr>
          <a:xfrm>
            <a:off x="4764240" y="3656160"/>
            <a:ext cx="4379760" cy="356688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2996640" y="4205160"/>
            <a:ext cx="1828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fining work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rea with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rofile broade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015985-37B8-48C9-9B37-A6B75DBE233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26920" y="162000"/>
            <a:ext cx="7629840" cy="39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abaaa9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7c1"/>
                </a:solidFill>
                <a:latin typeface="Tahoma"/>
              </a:rPr>
              <a:t>About Signal to noise</a:t>
            </a:r>
            <a:endParaRPr b="0" lang="en-US" sz="2400" spc="-1" strike="noStrike">
              <a:solidFill>
                <a:srgbClr val="0f57c1"/>
              </a:solidFill>
              <a:latin typeface="Tahoma"/>
            </a:endParaRPr>
          </a:p>
        </p:txBody>
      </p:sp>
      <p:sp>
        <p:nvSpPr>
          <p:cNvPr id="196" name=""/>
          <p:cNvSpPr/>
          <p:nvPr/>
        </p:nvSpPr>
        <p:spPr>
          <a:xfrm>
            <a:off x="379440" y="1077840"/>
            <a:ext cx="85294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ignal of baseband tune out of digitized data with noise excitation on lower side of working area is above noise with a level of 34 to 43 dB. This means a power ratio of 50 to 141 in betwe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371520" y="3290760"/>
            <a:ext cx="4522680" cy="339264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5022720" y="4313160"/>
            <a:ext cx="37958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s Tune signal amplitude is nearly independent of number of particles due to precise position data, this video is exemplary for tune measur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4D7E05-645F-4DDF-906E-3C85D837C6A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" restart="whenNotActive" nodeType="interactiveSeq" fill="hold">
                <p:stCondLst>
                  <p:cond evt="onClick">
                    <p:tgtEl>
                      <p:spTgt spid="197"/>
                    </p:tgtEl>
                  </p:cond>
                </p:stCondLst>
                <p:childTnLst>
                  <p:par>
                    <p:cTn id="17" fill="hold">
                      <p:stCondLst>
                        <p:cond evt="onClick">
                          <p:tgtEl>
                            <p:spTgt spid="197"/>
                          </p:tgtEl>
                        </p:cond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0" dur="1" fill="hold"/>
                                        <p:tgtEl>
                                          <p:spTgt spid="1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26920" y="162000"/>
            <a:ext cx="7629840" cy="39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abaaa9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7c1"/>
                </a:solidFill>
                <a:latin typeface="Tahoma"/>
              </a:rPr>
              <a:t>How it will be implemented in future</a:t>
            </a:r>
            <a:endParaRPr b="0" lang="en-US" sz="2400" spc="-1" strike="noStrike">
              <a:solidFill>
                <a:srgbClr val="0f57c1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932040"/>
            <a:ext cx="9144000" cy="5773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D47F18-EE80-4229-80FE-20A517C8D80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26920" y="162000"/>
            <a:ext cx="7629840" cy="39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abaaa9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7c1"/>
                </a:solidFill>
                <a:latin typeface="Tahoma"/>
              </a:rPr>
              <a:t>Data acquisition through Libera system</a:t>
            </a:r>
            <a:endParaRPr b="0" lang="en-US" sz="2400" spc="-1" strike="noStrike">
              <a:solidFill>
                <a:srgbClr val="0f57c1"/>
              </a:solidFill>
              <a:latin typeface="Tahoma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0" y="1755720"/>
            <a:ext cx="3782880" cy="284004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4336560" y="96984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336200" y="1281240"/>
            <a:ext cx="9360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9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220680" y="1136520"/>
            <a:ext cx="1119240" cy="374760"/>
            <a:chOff x="220680" y="1136520"/>
            <a:chExt cx="1119240" cy="374760"/>
          </a:xfrm>
        </p:grpSpPr>
        <p:sp>
          <p:nvSpPr>
            <p:cNvPr id="206" name=""/>
            <p:cNvSpPr/>
            <p:nvPr/>
          </p:nvSpPr>
          <p:spPr>
            <a:xfrm>
              <a:off x="220680" y="1136520"/>
              <a:ext cx="1117440" cy="372960"/>
            </a:xfrm>
            <a:prstGeom prst="rect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7" name="" descr=""/>
            <p:cNvPicPr/>
            <p:nvPr/>
          </p:nvPicPr>
          <p:blipFill>
            <a:blip r:embed="rId2"/>
            <a:stretch/>
          </p:blipFill>
          <p:spPr>
            <a:xfrm>
              <a:off x="222120" y="1138320"/>
              <a:ext cx="1117800" cy="37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"/>
            <p:cNvSpPr/>
            <p:nvPr/>
          </p:nvSpPr>
          <p:spPr>
            <a:xfrm>
              <a:off x="220680" y="1136520"/>
              <a:ext cx="1117440" cy="372960"/>
            </a:xfrm>
            <a:prstGeom prst="rect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22120" y="1138320"/>
              <a:ext cx="1117800" cy="372960"/>
            </a:xfrm>
            <a:prstGeom prst="rect">
              <a:avLst/>
            </a:prstGeom>
            <a:noFill/>
            <a:ln cap="rnd" w="52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456120" y="1219320"/>
            <a:ext cx="61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Times New Roman"/>
              </a:rPr>
              <a:t>pick up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503360" y="1219320"/>
            <a:ext cx="47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855800" y="1147680"/>
            <a:ext cx="1116000" cy="372960"/>
            <a:chOff x="1855800" y="1147680"/>
            <a:chExt cx="1116000" cy="372960"/>
          </a:xfrm>
        </p:grpSpPr>
        <p:sp>
          <p:nvSpPr>
            <p:cNvPr id="213" name=""/>
            <p:cNvSpPr/>
            <p:nvPr/>
          </p:nvSpPr>
          <p:spPr>
            <a:xfrm>
              <a:off x="1855800" y="1147680"/>
              <a:ext cx="1116000" cy="371520"/>
            </a:xfrm>
            <a:prstGeom prst="rect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4" name="" descr=""/>
            <p:cNvPicPr/>
            <p:nvPr/>
          </p:nvPicPr>
          <p:blipFill>
            <a:blip r:embed="rId3"/>
            <a:stretch/>
          </p:blipFill>
          <p:spPr>
            <a:xfrm>
              <a:off x="1855800" y="1147680"/>
              <a:ext cx="1116000" cy="37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5" name=""/>
            <p:cNvSpPr/>
            <p:nvPr/>
          </p:nvSpPr>
          <p:spPr>
            <a:xfrm>
              <a:off x="1855800" y="1147680"/>
              <a:ext cx="1116000" cy="371520"/>
            </a:xfrm>
            <a:prstGeom prst="rect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855800" y="1147680"/>
              <a:ext cx="1116000" cy="372960"/>
            </a:xfrm>
            <a:prstGeom prst="rect">
              <a:avLst/>
            </a:prstGeom>
            <a:noFill/>
            <a:ln cap="rnd" w="52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7" name=""/>
          <p:cNvSpPr/>
          <p:nvPr/>
        </p:nvSpPr>
        <p:spPr>
          <a:xfrm>
            <a:off x="2064960" y="1217520"/>
            <a:ext cx="753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Times New Roman"/>
              </a:rPr>
              <a:t>amplifie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156120" y="1217520"/>
            <a:ext cx="47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3470400" y="1068480"/>
            <a:ext cx="1209600" cy="557280"/>
            <a:chOff x="3470400" y="1068480"/>
            <a:chExt cx="1209600" cy="557280"/>
          </a:xfrm>
        </p:grpSpPr>
        <p:sp>
          <p:nvSpPr>
            <p:cNvPr id="220" name=""/>
            <p:cNvSpPr/>
            <p:nvPr/>
          </p:nvSpPr>
          <p:spPr>
            <a:xfrm>
              <a:off x="3470400" y="1068480"/>
              <a:ext cx="1209600" cy="557280"/>
            </a:xfrm>
            <a:prstGeom prst="rect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1" name="" descr=""/>
            <p:cNvPicPr/>
            <p:nvPr/>
          </p:nvPicPr>
          <p:blipFill>
            <a:blip r:embed="rId4"/>
            <a:stretch/>
          </p:blipFill>
          <p:spPr>
            <a:xfrm>
              <a:off x="3470400" y="1068480"/>
              <a:ext cx="1209600" cy="55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470400" y="1068480"/>
              <a:ext cx="1209600" cy="557280"/>
            </a:xfrm>
            <a:prstGeom prst="rect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470400" y="1068480"/>
              <a:ext cx="1209600" cy="557280"/>
            </a:xfrm>
            <a:prstGeom prst="rect">
              <a:avLst/>
            </a:prstGeom>
            <a:noFill/>
            <a:ln cap="rnd" w="52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"/>
          <p:cNvSpPr/>
          <p:nvPr/>
        </p:nvSpPr>
        <p:spPr>
          <a:xfrm>
            <a:off x="3778920" y="1122480"/>
            <a:ext cx="65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Times New Roman"/>
              </a:rPr>
              <a:t>posi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30760" y="1122480"/>
            <a:ext cx="47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657600" y="1336680"/>
            <a:ext cx="8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Times New Roman"/>
              </a:rPr>
              <a:t>evalua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830840" y="1336680"/>
            <a:ext cx="47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5094360" y="1138320"/>
            <a:ext cx="2296440" cy="383760"/>
            <a:chOff x="5094360" y="1138320"/>
            <a:chExt cx="2296440" cy="383760"/>
          </a:xfrm>
        </p:grpSpPr>
        <p:sp>
          <p:nvSpPr>
            <p:cNvPr id="229" name=""/>
            <p:cNvSpPr/>
            <p:nvPr/>
          </p:nvSpPr>
          <p:spPr>
            <a:xfrm>
              <a:off x="5094360" y="1138320"/>
              <a:ext cx="2296440" cy="383760"/>
            </a:xfrm>
            <a:prstGeom prst="rect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0" name="" descr=""/>
            <p:cNvPicPr/>
            <p:nvPr/>
          </p:nvPicPr>
          <p:blipFill>
            <a:blip r:embed="rId5"/>
            <a:stretch/>
          </p:blipFill>
          <p:spPr>
            <a:xfrm>
              <a:off x="5094360" y="1138320"/>
              <a:ext cx="2296440" cy="38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"/>
            <p:cNvSpPr/>
            <p:nvPr/>
          </p:nvSpPr>
          <p:spPr>
            <a:xfrm>
              <a:off x="5094360" y="1138320"/>
              <a:ext cx="2296440" cy="383760"/>
            </a:xfrm>
            <a:prstGeom prst="rect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094360" y="1138320"/>
              <a:ext cx="2296440" cy="383760"/>
            </a:xfrm>
            <a:prstGeom prst="rect">
              <a:avLst/>
            </a:prstGeom>
            <a:noFill/>
            <a:ln cap="rnd" w="52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3" name=""/>
          <p:cNvSpPr/>
          <p:nvPr/>
        </p:nvSpPr>
        <p:spPr>
          <a:xfrm>
            <a:off x="5220720" y="1219320"/>
            <a:ext cx="2129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Times New Roman"/>
              </a:rPr>
              <a:t>Shift to frequency domai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083280" y="1219320"/>
            <a:ext cx="47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"/>
          <p:cNvGrpSpPr/>
          <p:nvPr/>
        </p:nvGrpSpPr>
        <p:grpSpPr>
          <a:xfrm>
            <a:off x="7929720" y="1138320"/>
            <a:ext cx="1082520" cy="372960"/>
            <a:chOff x="7929720" y="1138320"/>
            <a:chExt cx="1082520" cy="372960"/>
          </a:xfrm>
        </p:grpSpPr>
        <p:sp>
          <p:nvSpPr>
            <p:cNvPr id="236" name=""/>
            <p:cNvSpPr/>
            <p:nvPr/>
          </p:nvSpPr>
          <p:spPr>
            <a:xfrm>
              <a:off x="7929720" y="1138320"/>
              <a:ext cx="1082520" cy="372960"/>
            </a:xfrm>
            <a:prstGeom prst="rect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7" name="" descr=""/>
            <p:cNvPicPr/>
            <p:nvPr/>
          </p:nvPicPr>
          <p:blipFill>
            <a:blip r:embed="rId6"/>
            <a:stretch/>
          </p:blipFill>
          <p:spPr>
            <a:xfrm>
              <a:off x="7929720" y="1138320"/>
              <a:ext cx="1082520" cy="37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8" name=""/>
            <p:cNvSpPr/>
            <p:nvPr/>
          </p:nvSpPr>
          <p:spPr>
            <a:xfrm>
              <a:off x="7929720" y="1138320"/>
              <a:ext cx="1082520" cy="372960"/>
            </a:xfrm>
            <a:prstGeom prst="rect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929720" y="1138320"/>
              <a:ext cx="1082520" cy="372960"/>
            </a:xfrm>
            <a:prstGeom prst="rect">
              <a:avLst/>
            </a:prstGeom>
            <a:noFill/>
            <a:ln cap="rnd" w="52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8239680" y="1208160"/>
            <a:ext cx="457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Times New Roman"/>
              </a:rPr>
              <a:t>tune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7915320" y="1219320"/>
            <a:ext cx="47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365120" y="1305000"/>
            <a:ext cx="470160" cy="61920"/>
          </a:xfrm>
          <a:custGeom>
            <a:avLst/>
            <a:gdLst/>
            <a:ahLst/>
            <a:rect l="l" t="t" r="r" b="b"/>
            <a:pathLst>
              <a:path w="6050" h="800">
                <a:moveTo>
                  <a:pt x="50" y="350"/>
                </a:moveTo>
                <a:lnTo>
                  <a:pt x="5383" y="350"/>
                </a:lnTo>
                <a:cubicBezTo>
                  <a:pt x="5411" y="350"/>
                  <a:pt x="5433" y="373"/>
                  <a:pt x="5433" y="400"/>
                </a:cubicBezTo>
                <a:cubicBezTo>
                  <a:pt x="5433" y="428"/>
                  <a:pt x="5411" y="450"/>
                  <a:pt x="5383" y="450"/>
                </a:cubicBezTo>
                <a:lnTo>
                  <a:pt x="50" y="450"/>
                </a:lnTo>
                <a:cubicBezTo>
                  <a:pt x="23" y="450"/>
                  <a:pt x="0" y="428"/>
                  <a:pt x="0" y="400"/>
                </a:cubicBezTo>
                <a:cubicBezTo>
                  <a:pt x="0" y="373"/>
                  <a:pt x="23" y="350"/>
                  <a:pt x="50" y="350"/>
                </a:cubicBezTo>
                <a:close/>
                <a:moveTo>
                  <a:pt x="5250" y="0"/>
                </a:moveTo>
                <a:lnTo>
                  <a:pt x="6050" y="400"/>
                </a:lnTo>
                <a:lnTo>
                  <a:pt x="5250" y="800"/>
                </a:lnTo>
                <a:lnTo>
                  <a:pt x="5250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002040" y="1316160"/>
            <a:ext cx="468360" cy="61920"/>
          </a:xfrm>
          <a:custGeom>
            <a:avLst/>
            <a:gdLst/>
            <a:ahLst/>
            <a:rect l="l" t="t" r="r" b="b"/>
            <a:pathLst>
              <a:path w="3025" h="400">
                <a:moveTo>
                  <a:pt x="25" y="175"/>
                </a:moveTo>
                <a:lnTo>
                  <a:pt x="2691" y="175"/>
                </a:lnTo>
                <a:cubicBezTo>
                  <a:pt x="2705" y="175"/>
                  <a:pt x="2716" y="186"/>
                  <a:pt x="2716" y="200"/>
                </a:cubicBezTo>
                <a:cubicBezTo>
                  <a:pt x="2716" y="214"/>
                  <a:pt x="2705" y="225"/>
                  <a:pt x="2691" y="225"/>
                </a:cubicBezTo>
                <a:lnTo>
                  <a:pt x="25" y="225"/>
                </a:lnTo>
                <a:cubicBezTo>
                  <a:pt x="11" y="225"/>
                  <a:pt x="0" y="214"/>
                  <a:pt x="0" y="200"/>
                </a:cubicBezTo>
                <a:cubicBezTo>
                  <a:pt x="0" y="186"/>
                  <a:pt x="11" y="175"/>
                  <a:pt x="25" y="175"/>
                </a:cubicBezTo>
                <a:close/>
                <a:moveTo>
                  <a:pt x="2625" y="0"/>
                </a:moveTo>
                <a:lnTo>
                  <a:pt x="3025" y="200"/>
                </a:lnTo>
                <a:lnTo>
                  <a:pt x="2625" y="400"/>
                </a:lnTo>
                <a:lnTo>
                  <a:pt x="2625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710240" y="1305000"/>
            <a:ext cx="374400" cy="61920"/>
          </a:xfrm>
          <a:custGeom>
            <a:avLst/>
            <a:gdLst/>
            <a:ahLst/>
            <a:rect l="l" t="t" r="r" b="b"/>
            <a:pathLst>
              <a:path w="2425" h="400">
                <a:moveTo>
                  <a:pt x="25" y="175"/>
                </a:moveTo>
                <a:lnTo>
                  <a:pt x="2091" y="175"/>
                </a:lnTo>
                <a:cubicBezTo>
                  <a:pt x="2105" y="175"/>
                  <a:pt x="2116" y="186"/>
                  <a:pt x="2116" y="200"/>
                </a:cubicBezTo>
                <a:cubicBezTo>
                  <a:pt x="2116" y="214"/>
                  <a:pt x="2105" y="225"/>
                  <a:pt x="2091" y="225"/>
                </a:cubicBezTo>
                <a:lnTo>
                  <a:pt x="25" y="225"/>
                </a:lnTo>
                <a:cubicBezTo>
                  <a:pt x="11" y="225"/>
                  <a:pt x="0" y="214"/>
                  <a:pt x="0" y="200"/>
                </a:cubicBezTo>
                <a:cubicBezTo>
                  <a:pt x="0" y="186"/>
                  <a:pt x="11" y="175"/>
                  <a:pt x="25" y="175"/>
                </a:cubicBezTo>
                <a:close/>
                <a:moveTo>
                  <a:pt x="2025" y="0"/>
                </a:moveTo>
                <a:lnTo>
                  <a:pt x="2425" y="200"/>
                </a:lnTo>
                <a:lnTo>
                  <a:pt x="2025" y="400"/>
                </a:lnTo>
                <a:lnTo>
                  <a:pt x="2025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7431120" y="1316160"/>
            <a:ext cx="468360" cy="61920"/>
          </a:xfrm>
          <a:custGeom>
            <a:avLst/>
            <a:gdLst/>
            <a:ahLst/>
            <a:rect l="l" t="t" r="r" b="b"/>
            <a:pathLst>
              <a:path w="1512" h="200">
                <a:moveTo>
                  <a:pt x="12" y="88"/>
                </a:moveTo>
                <a:lnTo>
                  <a:pt x="1345" y="88"/>
                </a:lnTo>
                <a:cubicBezTo>
                  <a:pt x="1352" y="88"/>
                  <a:pt x="1358" y="93"/>
                  <a:pt x="1358" y="100"/>
                </a:cubicBezTo>
                <a:cubicBezTo>
                  <a:pt x="1358" y="107"/>
                  <a:pt x="1352" y="113"/>
                  <a:pt x="1345" y="113"/>
                </a:cubicBezTo>
                <a:lnTo>
                  <a:pt x="12" y="113"/>
                </a:lnTo>
                <a:cubicBezTo>
                  <a:pt x="5" y="113"/>
                  <a:pt x="0" y="107"/>
                  <a:pt x="0" y="100"/>
                </a:cubicBezTo>
                <a:cubicBezTo>
                  <a:pt x="0" y="93"/>
                  <a:pt x="5" y="88"/>
                  <a:pt x="12" y="88"/>
                </a:cubicBezTo>
                <a:close/>
                <a:moveTo>
                  <a:pt x="1312" y="0"/>
                </a:moveTo>
                <a:lnTo>
                  <a:pt x="1512" y="100"/>
                </a:lnTo>
                <a:lnTo>
                  <a:pt x="1312" y="200"/>
                </a:lnTo>
                <a:lnTo>
                  <a:pt x="1312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7"/>
          <a:stretch/>
        </p:blipFill>
        <p:spPr>
          <a:xfrm>
            <a:off x="5359320" y="1778040"/>
            <a:ext cx="3784680" cy="2840040"/>
          </a:xfrm>
          <a:prstGeom prst="rect">
            <a:avLst/>
          </a:prstGeom>
          <a:ln w="0">
            <a:noFill/>
          </a:ln>
        </p:spPr>
      </p:pic>
      <p:grpSp>
        <p:nvGrpSpPr>
          <p:cNvPr id="247" name=""/>
          <p:cNvGrpSpPr/>
          <p:nvPr/>
        </p:nvGrpSpPr>
        <p:grpSpPr>
          <a:xfrm>
            <a:off x="0" y="1735200"/>
            <a:ext cx="4390560" cy="992160"/>
            <a:chOff x="0" y="1735200"/>
            <a:chExt cx="4390560" cy="992160"/>
          </a:xfrm>
        </p:grpSpPr>
        <p:sp>
          <p:nvSpPr>
            <p:cNvPr id="248" name=""/>
            <p:cNvSpPr/>
            <p:nvPr/>
          </p:nvSpPr>
          <p:spPr>
            <a:xfrm>
              <a:off x="2518920" y="2024280"/>
              <a:ext cx="18716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= Sondenkonstan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 = Off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49" name=""/>
            <p:cNvGraphicFramePr/>
            <p:nvPr/>
          </p:nvGraphicFramePr>
          <p:xfrm>
            <a:off x="0" y="1735200"/>
            <a:ext cx="2300040" cy="99216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250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0" y="1735200"/>
                      <a:ext cx="2300040" cy="992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251" name=""/>
          <p:cNvGraphicFramePr/>
          <p:nvPr/>
        </p:nvGraphicFramePr>
        <p:xfrm>
          <a:off x="484200" y="2940120"/>
          <a:ext cx="2952720" cy="7491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52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4200" y="2940120"/>
                    <a:ext cx="295272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53" name="" descr=""/>
          <p:cNvPicPr/>
          <p:nvPr/>
        </p:nvPicPr>
        <p:blipFill>
          <a:blip r:embed="rId12"/>
          <a:stretch/>
        </p:blipFill>
        <p:spPr>
          <a:xfrm>
            <a:off x="7437600" y="1422360"/>
            <a:ext cx="1706400" cy="1755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7ED9AA-9643-4902-A0E4-C1B034C2F0D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2540160" y="2540160"/>
            <a:ext cx="126720" cy="12672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26920" y="162000"/>
            <a:ext cx="7629840" cy="39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abaaa9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f57c1"/>
                </a:solidFill>
                <a:latin typeface="Tahoma"/>
              </a:rPr>
              <a:t>Outline</a:t>
            </a:r>
            <a:endParaRPr b="0" lang="en-US" sz="2800" spc="-1" strike="noStrike">
              <a:solidFill>
                <a:srgbClr val="0f57c1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477720" y="1195560"/>
            <a:ext cx="806472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5840" indent="-285840">
              <a:lnSpc>
                <a:spcPct val="130000"/>
              </a:lnSpc>
              <a:spcBef>
                <a:spcPts val="499"/>
              </a:spcBef>
              <a:buClr>
                <a:srgbClr val="c18e60"/>
              </a:buClr>
              <a:buSzPct val="80000"/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rief introduction to SIS-18 accelerator at GSI and motiv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30000"/>
              </a:lnSpc>
              <a:spcBef>
                <a:spcPts val="499"/>
              </a:spcBef>
              <a:buClr>
                <a:srgbClr val="c18e6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Libera position data system for tu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190440">
              <a:lnSpc>
                <a:spcPct val="130000"/>
              </a:lnSpc>
              <a:spcBef>
                <a:spcPts val="400"/>
              </a:spcBef>
              <a:buClr>
                <a:srgbClr val="c18e6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System setu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190440">
              <a:lnSpc>
                <a:spcPct val="130000"/>
              </a:lnSpc>
              <a:spcBef>
                <a:spcPts val="400"/>
              </a:spcBef>
              <a:buClr>
                <a:srgbClr val="c18e6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Typical position and tune tra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190440">
              <a:lnSpc>
                <a:spcPct val="130000"/>
              </a:lnSpc>
              <a:spcBef>
                <a:spcPts val="400"/>
              </a:spcBef>
              <a:buClr>
                <a:srgbClr val="c18e6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Required beam exci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30000"/>
              </a:lnSpc>
              <a:spcBef>
                <a:spcPts val="499"/>
              </a:spcBef>
              <a:buClr>
                <a:srgbClr val="c18e6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elected resul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190440">
              <a:lnSpc>
                <a:spcPct val="130000"/>
              </a:lnSpc>
              <a:spcBef>
                <a:spcPts val="400"/>
              </a:spcBef>
              <a:buClr>
                <a:srgbClr val="c18e6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Space charge effec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190440">
              <a:lnSpc>
                <a:spcPct val="130000"/>
              </a:lnSpc>
              <a:spcBef>
                <a:spcPts val="400"/>
              </a:spcBef>
              <a:buClr>
                <a:srgbClr val="c18e6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Using RF for ga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190440">
              <a:lnSpc>
                <a:spcPct val="130000"/>
              </a:lnSpc>
              <a:spcBef>
                <a:spcPts val="400"/>
              </a:spcBef>
              <a:buClr>
                <a:srgbClr val="c18e6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Tune accura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30000"/>
              </a:lnSpc>
              <a:spcBef>
                <a:spcPts val="499"/>
              </a:spcBef>
              <a:buClr>
                <a:srgbClr val="c18e6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ummary and outloo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30000"/>
              </a:lnSpc>
              <a:spcBef>
                <a:spcPts val="499"/>
              </a:spcBef>
              <a:buClr>
                <a:srgbClr val="c18e6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E3B20B-A0D4-49AD-8EE2-850A2601EA7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2540160" y="2540160"/>
            <a:ext cx="126720" cy="126720"/>
          </a:xfrm>
          <a:prstGeom prst="rect">
            <a:avLst/>
          </a:prstGeom>
          <a:ln w="0">
            <a:noFill/>
          </a:ln>
        </p:spPr>
      </p:pic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26920" y="162000"/>
            <a:ext cx="7629840" cy="39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abaaa9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f57c1"/>
                </a:solidFill>
                <a:latin typeface="Tahoma"/>
              </a:rPr>
              <a:t>Outline</a:t>
            </a:r>
            <a:endParaRPr b="0" lang="en-US" sz="2800" spc="-1" strike="noStrike">
              <a:solidFill>
                <a:srgbClr val="0f57c1"/>
              </a:solidFill>
              <a:latin typeface="Tahoma"/>
            </a:endParaRPr>
          </a:p>
        </p:txBody>
      </p:sp>
      <p:sp>
        <p:nvSpPr>
          <p:cNvPr id="256" name=""/>
          <p:cNvSpPr/>
          <p:nvPr/>
        </p:nvSpPr>
        <p:spPr>
          <a:xfrm>
            <a:off x="477720" y="1195560"/>
            <a:ext cx="806472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5840" indent="-285840">
              <a:lnSpc>
                <a:spcPct val="130000"/>
              </a:lnSpc>
              <a:spcBef>
                <a:spcPts val="499"/>
              </a:spcBef>
              <a:buClr>
                <a:srgbClr val="c18e6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rief introduction to SIS-18 accelerator at GSI and motiv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30000"/>
              </a:lnSpc>
              <a:spcBef>
                <a:spcPts val="499"/>
              </a:spcBef>
              <a:buClr>
                <a:srgbClr val="c18e6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Libera position data system for tu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190440">
              <a:lnSpc>
                <a:spcPct val="130000"/>
              </a:lnSpc>
              <a:spcBef>
                <a:spcPts val="400"/>
              </a:spcBef>
              <a:buClr>
                <a:srgbClr val="c18e6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System setu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190440">
              <a:lnSpc>
                <a:spcPct val="130000"/>
              </a:lnSpc>
              <a:spcBef>
                <a:spcPts val="400"/>
              </a:spcBef>
              <a:buClr>
                <a:srgbClr val="c18e6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Typical position and tune tra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190440">
              <a:lnSpc>
                <a:spcPct val="130000"/>
              </a:lnSpc>
              <a:spcBef>
                <a:spcPts val="400"/>
              </a:spcBef>
              <a:buClr>
                <a:srgbClr val="c18e6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Required beam exci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30000"/>
              </a:lnSpc>
              <a:spcBef>
                <a:spcPts val="499"/>
              </a:spcBef>
              <a:buClr>
                <a:srgbClr val="c18e60"/>
              </a:buClr>
              <a:buSzPct val="80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elected resul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190440">
              <a:lnSpc>
                <a:spcPct val="130000"/>
              </a:lnSpc>
              <a:spcBef>
                <a:spcPts val="400"/>
              </a:spcBef>
              <a:buClr>
                <a:srgbClr val="c18e6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Space charge effe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190440">
              <a:lnSpc>
                <a:spcPct val="130000"/>
              </a:lnSpc>
              <a:spcBef>
                <a:spcPts val="400"/>
              </a:spcBef>
              <a:buClr>
                <a:srgbClr val="c18e6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Using RF for ga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190440">
              <a:lnSpc>
                <a:spcPct val="130000"/>
              </a:lnSpc>
              <a:spcBef>
                <a:spcPts val="400"/>
              </a:spcBef>
              <a:buClr>
                <a:srgbClr val="c18e6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Tune accura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30000"/>
              </a:lnSpc>
              <a:spcBef>
                <a:spcPts val="499"/>
              </a:spcBef>
              <a:buClr>
                <a:srgbClr val="c18e6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ummary and outloo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30000"/>
              </a:lnSpc>
              <a:spcBef>
                <a:spcPts val="499"/>
              </a:spcBef>
              <a:buClr>
                <a:srgbClr val="c18e6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B6B7ED-614A-4C6E-9AB3-2AD71696E2D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26920" y="162000"/>
            <a:ext cx="7629840" cy="39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abaaa9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7c1"/>
                </a:solidFill>
                <a:latin typeface="Tahoma"/>
              </a:rPr>
              <a:t>Space charge effects: coherent motion</a:t>
            </a:r>
            <a:endParaRPr b="0" lang="en-US" sz="2400" spc="-1" strike="noStrike">
              <a:solidFill>
                <a:srgbClr val="0f57c1"/>
              </a:solidFill>
              <a:latin typeface="Tahom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252000" y="1061640"/>
            <a:ext cx="8891640" cy="23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451"/>
              </a:spcBef>
              <a:buClr>
                <a:srgbClr val="c18e6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Tune frequency is shifted due to self-fields of particles, depending on the amount of particles. Space charge introduces an additional acceleration force to the individual particle mo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spcBef>
                <a:spcPts val="451"/>
              </a:spcBef>
              <a:buClr>
                <a:srgbClr val="c18e6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The collective betatron motion is influenced by space charge, as it acts on the beam with well determined phase. This leads to frequency shif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62120" indent="-190440">
              <a:spcBef>
                <a:spcPts val="400"/>
              </a:spcBef>
              <a:buClr>
                <a:srgbClr val="fcad5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Coherent motion changes absolute value of tun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62120" indent="-190440">
              <a:spcBef>
                <a:spcPts val="400"/>
              </a:spcBef>
              <a:buClr>
                <a:srgbClr val="fcad5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Incoherent motion changes width of observed frequenc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1003320" y="3441600"/>
            <a:ext cx="3138480" cy="60660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"/>
          <p:cNvPicPr/>
          <p:nvPr/>
        </p:nvPicPr>
        <p:blipFill>
          <a:blip r:embed="rId2"/>
          <a:stretch/>
        </p:blipFill>
        <p:spPr>
          <a:xfrm>
            <a:off x="905040" y="4146480"/>
            <a:ext cx="5019480" cy="64764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3"/>
          <a:stretch/>
        </p:blipFill>
        <p:spPr>
          <a:xfrm>
            <a:off x="1736640" y="4984920"/>
            <a:ext cx="3390840" cy="2006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C4BD78-5CD1-4DB8-AAB3-2ECF7F9548B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26920" y="162000"/>
            <a:ext cx="7629840" cy="39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abaaa9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7c1"/>
                </a:solidFill>
                <a:latin typeface="Tahoma"/>
              </a:rPr>
              <a:t>Space charge effects: coherent motion</a:t>
            </a:r>
            <a:endParaRPr b="0" lang="en-US" sz="2400" spc="-1" strike="noStrike">
              <a:solidFill>
                <a:srgbClr val="0f57c1"/>
              </a:solidFill>
              <a:latin typeface="Tahoma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0" y="973080"/>
            <a:ext cx="4522680" cy="355464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2"/>
          <a:stretch/>
        </p:blipFill>
        <p:spPr>
          <a:xfrm>
            <a:off x="4522680" y="963720"/>
            <a:ext cx="4621320" cy="355752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3"/>
          <a:stretch/>
        </p:blipFill>
        <p:spPr>
          <a:xfrm>
            <a:off x="0" y="4468680"/>
            <a:ext cx="3365640" cy="284004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4488840" y="4734000"/>
            <a:ext cx="4650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pace charge coherent tune shift on vertical tun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une is shifted by up to 12 mq to lower frequ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4522680" y="5564160"/>
            <a:ext cx="45594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o observable effect on horizontal tu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(maybe due to less sensitivity of pickup in horizontal plane and no possibility to excite bea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EF75F7-543F-4905-90F1-E6AE475E9FC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26920" y="162000"/>
            <a:ext cx="7629840" cy="39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abaaa9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7c1"/>
                </a:solidFill>
                <a:latin typeface="Tahoma"/>
              </a:rPr>
              <a:t>Position determination: windowing</a:t>
            </a:r>
            <a:endParaRPr b="0" lang="en-US" sz="2400" spc="-1" strike="noStrike">
              <a:solidFill>
                <a:srgbClr val="0f57c1"/>
              </a:solidFill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252000" y="1061640"/>
            <a:ext cx="424332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400"/>
              </a:spcBef>
              <a:buClr>
                <a:srgbClr val="c18e6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Why not taking the RF? It is bunch-synchronuos, free-to-use and matched to the width of every bunch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0" y="2606760"/>
            <a:ext cx="4572000" cy="348768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/>
          <p:nvPr/>
        </p:nvSpPr>
        <p:spPr>
          <a:xfrm>
            <a:off x="739080" y="2025720"/>
            <a:ext cx="97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Or no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E18072-2390-4EEB-92D3-C0CDB876CC8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26920" y="162000"/>
            <a:ext cx="7629840" cy="39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abaaa9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7c1"/>
                </a:solidFill>
                <a:latin typeface="Tahoma"/>
              </a:rPr>
              <a:t>Position determination: windowing</a:t>
            </a:r>
            <a:endParaRPr b="0" lang="en-US" sz="2400" spc="-1" strike="noStrike">
              <a:solidFill>
                <a:srgbClr val="0f57c1"/>
              </a:solidFill>
              <a:latin typeface="Tahoma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>
            <a:off x="0" y="984240"/>
            <a:ext cx="4572000" cy="304488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2"/>
          <a:stretch/>
        </p:blipFill>
        <p:spPr>
          <a:xfrm>
            <a:off x="4572000" y="1012680"/>
            <a:ext cx="4572000" cy="300528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3"/>
          <a:stretch/>
        </p:blipFill>
        <p:spPr>
          <a:xfrm>
            <a:off x="2754360" y="4203720"/>
            <a:ext cx="3633840" cy="284004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6595920" y="4352760"/>
            <a:ext cx="24591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hus RF cannot be used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resumably due to c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ismatching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he gating of data has 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 done on data itsel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F456B6-2D77-4BF3-A393-908609452D5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26920" y="162000"/>
            <a:ext cx="7629840" cy="39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abaaa9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7c1"/>
                </a:solidFill>
                <a:latin typeface="Tahoma"/>
              </a:rPr>
              <a:t>Conclusions</a:t>
            </a:r>
            <a:endParaRPr b="0" lang="en-US" sz="2400" spc="-1" strike="noStrike">
              <a:solidFill>
                <a:srgbClr val="0f57c1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252000" y="1062000"/>
            <a:ext cx="8891640" cy="259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400"/>
              </a:spcBef>
              <a:buClr>
                <a:srgbClr val="c18e6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It has been shown, that position and tune is measured stable for all types of ions and different number of particles with a resolution better than 0.1mm and at least 1mq for position and tune respectivel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spcBef>
                <a:spcPts val="400"/>
              </a:spcBef>
              <a:buClr>
                <a:srgbClr val="c18e6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Data is ready to run onlin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spcBef>
                <a:spcPts val="400"/>
              </a:spcBef>
              <a:buClr>
                <a:srgbClr val="c18e6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Physical observations are possible thanks to a high resolution measurement (e.g. space charge, quadrupol oscillations, influence of chromaticity)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spcBef>
                <a:spcPts val="400"/>
              </a:spcBef>
              <a:buClr>
                <a:srgbClr val="c18e6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Next step is to implement this to an automatic correction system based on obtained position and tune data (Rahul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858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2225520" y="2373480"/>
            <a:ext cx="6581880" cy="49352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>
            <a:off x="166320" y="5006880"/>
            <a:ext cx="1834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hank you f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Your attention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30953B-A0F6-475F-A3EC-E2B74D8A08E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" restart="whenNotActive" nodeType="interactiveSeq" fill="hold">
                <p:stCondLst>
                  <p:cond evt="onClick">
                    <p:tgtEl>
                      <p:spTgt spid="279"/>
                    </p:tgtEl>
                  </p:cond>
                </p:stCondLst>
                <p:childTnLst>
                  <p:par>
                    <p:cTn id="43" fill="hold">
                      <p:stCondLst>
                        <p:cond evt="onClick">
                          <p:tgtEl>
                            <p:spTgt spid="279"/>
                          </p:tgtEl>
                        </p:cond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6" dur="1" fill="hold"/>
                                        <p:tgtEl>
                                          <p:spTgt spid="2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26920" y="100080"/>
            <a:ext cx="762984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abaaa9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57c1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52360" y="1061640"/>
            <a:ext cx="864072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EEA600-7D34-457C-B383-F2F9F35554AF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26920" y="100080"/>
            <a:ext cx="762984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abaaa9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57c1"/>
              </a:solidFill>
              <a:latin typeface="Tahoma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965160" y="888840"/>
            <a:ext cx="7188120" cy="5894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BBFF6F-5772-4E63-946C-B49D08D8765E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26920" y="162000"/>
            <a:ext cx="7629840" cy="39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abaaa9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7c1"/>
                </a:solidFill>
                <a:latin typeface="Tahoma"/>
              </a:rPr>
              <a:t>Data acquisition through Libera system</a:t>
            </a:r>
            <a:endParaRPr b="0" lang="en-US" sz="2400" spc="-1" strike="noStrike">
              <a:solidFill>
                <a:srgbClr val="0f57c1"/>
              </a:solidFill>
              <a:latin typeface="Tahoma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0" y="1755720"/>
            <a:ext cx="3782880" cy="2840040"/>
          </a:xfrm>
          <a:prstGeom prst="rect">
            <a:avLst/>
          </a:prstGeom>
          <a:ln w="0">
            <a:noFill/>
          </a:ln>
        </p:spPr>
      </p:pic>
      <p:sp>
        <p:nvSpPr>
          <p:cNvPr id="287" name=""/>
          <p:cNvSpPr/>
          <p:nvPr/>
        </p:nvSpPr>
        <p:spPr>
          <a:xfrm>
            <a:off x="4336560" y="96984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336200" y="1281240"/>
            <a:ext cx="9360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9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"/>
          <p:cNvGrpSpPr/>
          <p:nvPr/>
        </p:nvGrpSpPr>
        <p:grpSpPr>
          <a:xfrm>
            <a:off x="220680" y="1136520"/>
            <a:ext cx="1119240" cy="374760"/>
            <a:chOff x="220680" y="1136520"/>
            <a:chExt cx="1119240" cy="374760"/>
          </a:xfrm>
        </p:grpSpPr>
        <p:sp>
          <p:nvSpPr>
            <p:cNvPr id="290" name=""/>
            <p:cNvSpPr/>
            <p:nvPr/>
          </p:nvSpPr>
          <p:spPr>
            <a:xfrm>
              <a:off x="220680" y="1136520"/>
              <a:ext cx="1117440" cy="372960"/>
            </a:xfrm>
            <a:prstGeom prst="rect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91" name="" descr=""/>
            <p:cNvPicPr/>
            <p:nvPr/>
          </p:nvPicPr>
          <p:blipFill>
            <a:blip r:embed="rId2"/>
            <a:stretch/>
          </p:blipFill>
          <p:spPr>
            <a:xfrm>
              <a:off x="222120" y="1138320"/>
              <a:ext cx="1117800" cy="37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2" name=""/>
            <p:cNvSpPr/>
            <p:nvPr/>
          </p:nvSpPr>
          <p:spPr>
            <a:xfrm>
              <a:off x="220680" y="1136520"/>
              <a:ext cx="1117440" cy="372960"/>
            </a:xfrm>
            <a:prstGeom prst="rect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22120" y="1138320"/>
              <a:ext cx="1117800" cy="372960"/>
            </a:xfrm>
            <a:prstGeom prst="rect">
              <a:avLst/>
            </a:prstGeom>
            <a:noFill/>
            <a:ln cap="rnd" w="52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"/>
          <p:cNvSpPr/>
          <p:nvPr/>
        </p:nvSpPr>
        <p:spPr>
          <a:xfrm>
            <a:off x="456120" y="1219320"/>
            <a:ext cx="61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Times New Roman"/>
              </a:rPr>
              <a:t>pick up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1503360" y="1219320"/>
            <a:ext cx="47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1855800" y="1147680"/>
            <a:ext cx="1116000" cy="372960"/>
            <a:chOff x="1855800" y="1147680"/>
            <a:chExt cx="1116000" cy="372960"/>
          </a:xfrm>
        </p:grpSpPr>
        <p:sp>
          <p:nvSpPr>
            <p:cNvPr id="297" name=""/>
            <p:cNvSpPr/>
            <p:nvPr/>
          </p:nvSpPr>
          <p:spPr>
            <a:xfrm>
              <a:off x="1855800" y="1147680"/>
              <a:ext cx="1116000" cy="371520"/>
            </a:xfrm>
            <a:prstGeom prst="rect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98" name="" descr=""/>
            <p:cNvPicPr/>
            <p:nvPr/>
          </p:nvPicPr>
          <p:blipFill>
            <a:blip r:embed="rId3"/>
            <a:stretch/>
          </p:blipFill>
          <p:spPr>
            <a:xfrm>
              <a:off x="1855800" y="1147680"/>
              <a:ext cx="1116000" cy="37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9" name=""/>
            <p:cNvSpPr/>
            <p:nvPr/>
          </p:nvSpPr>
          <p:spPr>
            <a:xfrm>
              <a:off x="1855800" y="1147680"/>
              <a:ext cx="1116000" cy="371520"/>
            </a:xfrm>
            <a:prstGeom prst="rect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1855800" y="1147680"/>
              <a:ext cx="1116000" cy="372960"/>
            </a:xfrm>
            <a:prstGeom prst="rect">
              <a:avLst/>
            </a:prstGeom>
            <a:noFill/>
            <a:ln cap="rnd" w="52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2064960" y="1217520"/>
            <a:ext cx="753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Times New Roman"/>
              </a:rPr>
              <a:t>amplifie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3156120" y="1217520"/>
            <a:ext cx="47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3" name=""/>
          <p:cNvGrpSpPr/>
          <p:nvPr/>
        </p:nvGrpSpPr>
        <p:grpSpPr>
          <a:xfrm>
            <a:off x="3470400" y="1068480"/>
            <a:ext cx="1209600" cy="557280"/>
            <a:chOff x="3470400" y="1068480"/>
            <a:chExt cx="1209600" cy="557280"/>
          </a:xfrm>
        </p:grpSpPr>
        <p:sp>
          <p:nvSpPr>
            <p:cNvPr id="304" name=""/>
            <p:cNvSpPr/>
            <p:nvPr/>
          </p:nvSpPr>
          <p:spPr>
            <a:xfrm>
              <a:off x="3470400" y="1068480"/>
              <a:ext cx="1209600" cy="557280"/>
            </a:xfrm>
            <a:prstGeom prst="rect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05" name="" descr=""/>
            <p:cNvPicPr/>
            <p:nvPr/>
          </p:nvPicPr>
          <p:blipFill>
            <a:blip r:embed="rId4"/>
            <a:stretch/>
          </p:blipFill>
          <p:spPr>
            <a:xfrm>
              <a:off x="3470400" y="1068480"/>
              <a:ext cx="1209600" cy="55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6" name=""/>
            <p:cNvSpPr/>
            <p:nvPr/>
          </p:nvSpPr>
          <p:spPr>
            <a:xfrm>
              <a:off x="3470400" y="1068480"/>
              <a:ext cx="1209600" cy="557280"/>
            </a:xfrm>
            <a:prstGeom prst="rect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470400" y="1068480"/>
              <a:ext cx="1209600" cy="557280"/>
            </a:xfrm>
            <a:prstGeom prst="rect">
              <a:avLst/>
            </a:prstGeom>
            <a:noFill/>
            <a:ln cap="rnd" w="52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8" name=""/>
          <p:cNvSpPr/>
          <p:nvPr/>
        </p:nvSpPr>
        <p:spPr>
          <a:xfrm>
            <a:off x="3778920" y="1122480"/>
            <a:ext cx="65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Times New Roman"/>
              </a:rPr>
              <a:t>posi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730760" y="1122480"/>
            <a:ext cx="47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657600" y="1336680"/>
            <a:ext cx="8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Times New Roman"/>
              </a:rPr>
              <a:t>evalua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830840" y="1336680"/>
            <a:ext cx="47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5094360" y="1138320"/>
            <a:ext cx="2296440" cy="383760"/>
            <a:chOff x="5094360" y="1138320"/>
            <a:chExt cx="2296440" cy="383760"/>
          </a:xfrm>
        </p:grpSpPr>
        <p:sp>
          <p:nvSpPr>
            <p:cNvPr id="313" name=""/>
            <p:cNvSpPr/>
            <p:nvPr/>
          </p:nvSpPr>
          <p:spPr>
            <a:xfrm>
              <a:off x="5094360" y="1138320"/>
              <a:ext cx="2296440" cy="383760"/>
            </a:xfrm>
            <a:prstGeom prst="rect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14" name="" descr=""/>
            <p:cNvPicPr/>
            <p:nvPr/>
          </p:nvPicPr>
          <p:blipFill>
            <a:blip r:embed="rId5"/>
            <a:stretch/>
          </p:blipFill>
          <p:spPr>
            <a:xfrm>
              <a:off x="5094360" y="1138320"/>
              <a:ext cx="2296440" cy="38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5" name=""/>
            <p:cNvSpPr/>
            <p:nvPr/>
          </p:nvSpPr>
          <p:spPr>
            <a:xfrm>
              <a:off x="5094360" y="1138320"/>
              <a:ext cx="2296440" cy="383760"/>
            </a:xfrm>
            <a:prstGeom prst="rect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5094360" y="1138320"/>
              <a:ext cx="2296440" cy="383760"/>
            </a:xfrm>
            <a:prstGeom prst="rect">
              <a:avLst/>
            </a:prstGeom>
            <a:noFill/>
            <a:ln cap="rnd" w="52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7" name=""/>
          <p:cNvSpPr/>
          <p:nvPr/>
        </p:nvSpPr>
        <p:spPr>
          <a:xfrm>
            <a:off x="5220720" y="1219320"/>
            <a:ext cx="2129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Times New Roman"/>
              </a:rPr>
              <a:t>Shift to frequency domai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6083280" y="1219320"/>
            <a:ext cx="47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9" name=""/>
          <p:cNvGrpSpPr/>
          <p:nvPr/>
        </p:nvGrpSpPr>
        <p:grpSpPr>
          <a:xfrm>
            <a:off x="7929720" y="1138320"/>
            <a:ext cx="1082520" cy="372960"/>
            <a:chOff x="7929720" y="1138320"/>
            <a:chExt cx="1082520" cy="372960"/>
          </a:xfrm>
        </p:grpSpPr>
        <p:sp>
          <p:nvSpPr>
            <p:cNvPr id="320" name=""/>
            <p:cNvSpPr/>
            <p:nvPr/>
          </p:nvSpPr>
          <p:spPr>
            <a:xfrm>
              <a:off x="7929720" y="1138320"/>
              <a:ext cx="1082520" cy="372960"/>
            </a:xfrm>
            <a:prstGeom prst="rect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21" name="" descr=""/>
            <p:cNvPicPr/>
            <p:nvPr/>
          </p:nvPicPr>
          <p:blipFill>
            <a:blip r:embed="rId6"/>
            <a:stretch/>
          </p:blipFill>
          <p:spPr>
            <a:xfrm>
              <a:off x="7929720" y="1138320"/>
              <a:ext cx="1082520" cy="37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2" name=""/>
            <p:cNvSpPr/>
            <p:nvPr/>
          </p:nvSpPr>
          <p:spPr>
            <a:xfrm>
              <a:off x="7929720" y="1138320"/>
              <a:ext cx="1082520" cy="372960"/>
            </a:xfrm>
            <a:prstGeom prst="rect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929720" y="1138320"/>
              <a:ext cx="1082520" cy="372960"/>
            </a:xfrm>
            <a:prstGeom prst="rect">
              <a:avLst/>
            </a:prstGeom>
            <a:noFill/>
            <a:ln cap="rnd" w="52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4" name=""/>
          <p:cNvSpPr/>
          <p:nvPr/>
        </p:nvSpPr>
        <p:spPr>
          <a:xfrm>
            <a:off x="8239680" y="1208160"/>
            <a:ext cx="457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Times New Roman"/>
              </a:rPr>
              <a:t>tune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7915320" y="1219320"/>
            <a:ext cx="47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1365120" y="1305000"/>
            <a:ext cx="470160" cy="61920"/>
          </a:xfrm>
          <a:custGeom>
            <a:avLst/>
            <a:gdLst/>
            <a:ahLst/>
            <a:rect l="l" t="t" r="r" b="b"/>
            <a:pathLst>
              <a:path w="6050" h="800">
                <a:moveTo>
                  <a:pt x="50" y="350"/>
                </a:moveTo>
                <a:lnTo>
                  <a:pt x="5383" y="350"/>
                </a:lnTo>
                <a:cubicBezTo>
                  <a:pt x="5411" y="350"/>
                  <a:pt x="5433" y="373"/>
                  <a:pt x="5433" y="400"/>
                </a:cubicBezTo>
                <a:cubicBezTo>
                  <a:pt x="5433" y="428"/>
                  <a:pt x="5411" y="450"/>
                  <a:pt x="5383" y="450"/>
                </a:cubicBezTo>
                <a:lnTo>
                  <a:pt x="50" y="450"/>
                </a:lnTo>
                <a:cubicBezTo>
                  <a:pt x="23" y="450"/>
                  <a:pt x="0" y="428"/>
                  <a:pt x="0" y="400"/>
                </a:cubicBezTo>
                <a:cubicBezTo>
                  <a:pt x="0" y="373"/>
                  <a:pt x="23" y="350"/>
                  <a:pt x="50" y="350"/>
                </a:cubicBezTo>
                <a:close/>
                <a:moveTo>
                  <a:pt x="5250" y="0"/>
                </a:moveTo>
                <a:lnTo>
                  <a:pt x="6050" y="400"/>
                </a:lnTo>
                <a:lnTo>
                  <a:pt x="5250" y="800"/>
                </a:lnTo>
                <a:lnTo>
                  <a:pt x="5250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002040" y="1316160"/>
            <a:ext cx="468360" cy="61920"/>
          </a:xfrm>
          <a:custGeom>
            <a:avLst/>
            <a:gdLst/>
            <a:ahLst/>
            <a:rect l="l" t="t" r="r" b="b"/>
            <a:pathLst>
              <a:path w="3025" h="400">
                <a:moveTo>
                  <a:pt x="25" y="175"/>
                </a:moveTo>
                <a:lnTo>
                  <a:pt x="2691" y="175"/>
                </a:lnTo>
                <a:cubicBezTo>
                  <a:pt x="2705" y="175"/>
                  <a:pt x="2716" y="186"/>
                  <a:pt x="2716" y="200"/>
                </a:cubicBezTo>
                <a:cubicBezTo>
                  <a:pt x="2716" y="214"/>
                  <a:pt x="2705" y="225"/>
                  <a:pt x="2691" y="225"/>
                </a:cubicBezTo>
                <a:lnTo>
                  <a:pt x="25" y="225"/>
                </a:lnTo>
                <a:cubicBezTo>
                  <a:pt x="11" y="225"/>
                  <a:pt x="0" y="214"/>
                  <a:pt x="0" y="200"/>
                </a:cubicBezTo>
                <a:cubicBezTo>
                  <a:pt x="0" y="186"/>
                  <a:pt x="11" y="175"/>
                  <a:pt x="25" y="175"/>
                </a:cubicBezTo>
                <a:close/>
                <a:moveTo>
                  <a:pt x="2625" y="0"/>
                </a:moveTo>
                <a:lnTo>
                  <a:pt x="3025" y="200"/>
                </a:lnTo>
                <a:lnTo>
                  <a:pt x="2625" y="400"/>
                </a:lnTo>
                <a:lnTo>
                  <a:pt x="2625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710240" y="1305000"/>
            <a:ext cx="374400" cy="61920"/>
          </a:xfrm>
          <a:custGeom>
            <a:avLst/>
            <a:gdLst/>
            <a:ahLst/>
            <a:rect l="l" t="t" r="r" b="b"/>
            <a:pathLst>
              <a:path w="2425" h="400">
                <a:moveTo>
                  <a:pt x="25" y="175"/>
                </a:moveTo>
                <a:lnTo>
                  <a:pt x="2091" y="175"/>
                </a:lnTo>
                <a:cubicBezTo>
                  <a:pt x="2105" y="175"/>
                  <a:pt x="2116" y="186"/>
                  <a:pt x="2116" y="200"/>
                </a:cubicBezTo>
                <a:cubicBezTo>
                  <a:pt x="2116" y="214"/>
                  <a:pt x="2105" y="225"/>
                  <a:pt x="2091" y="225"/>
                </a:cubicBezTo>
                <a:lnTo>
                  <a:pt x="25" y="225"/>
                </a:lnTo>
                <a:cubicBezTo>
                  <a:pt x="11" y="225"/>
                  <a:pt x="0" y="214"/>
                  <a:pt x="0" y="200"/>
                </a:cubicBezTo>
                <a:cubicBezTo>
                  <a:pt x="0" y="186"/>
                  <a:pt x="11" y="175"/>
                  <a:pt x="25" y="175"/>
                </a:cubicBezTo>
                <a:close/>
                <a:moveTo>
                  <a:pt x="2025" y="0"/>
                </a:moveTo>
                <a:lnTo>
                  <a:pt x="2425" y="200"/>
                </a:lnTo>
                <a:lnTo>
                  <a:pt x="2025" y="400"/>
                </a:lnTo>
                <a:lnTo>
                  <a:pt x="2025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431120" y="1316160"/>
            <a:ext cx="468360" cy="61920"/>
          </a:xfrm>
          <a:custGeom>
            <a:avLst/>
            <a:gdLst/>
            <a:ahLst/>
            <a:rect l="l" t="t" r="r" b="b"/>
            <a:pathLst>
              <a:path w="1512" h="200">
                <a:moveTo>
                  <a:pt x="12" y="88"/>
                </a:moveTo>
                <a:lnTo>
                  <a:pt x="1345" y="88"/>
                </a:lnTo>
                <a:cubicBezTo>
                  <a:pt x="1352" y="88"/>
                  <a:pt x="1358" y="93"/>
                  <a:pt x="1358" y="100"/>
                </a:cubicBezTo>
                <a:cubicBezTo>
                  <a:pt x="1358" y="107"/>
                  <a:pt x="1352" y="113"/>
                  <a:pt x="1345" y="113"/>
                </a:cubicBezTo>
                <a:lnTo>
                  <a:pt x="12" y="113"/>
                </a:lnTo>
                <a:cubicBezTo>
                  <a:pt x="5" y="113"/>
                  <a:pt x="0" y="107"/>
                  <a:pt x="0" y="100"/>
                </a:cubicBezTo>
                <a:cubicBezTo>
                  <a:pt x="0" y="93"/>
                  <a:pt x="5" y="88"/>
                  <a:pt x="12" y="88"/>
                </a:cubicBezTo>
                <a:close/>
                <a:moveTo>
                  <a:pt x="1312" y="0"/>
                </a:moveTo>
                <a:lnTo>
                  <a:pt x="1512" y="100"/>
                </a:lnTo>
                <a:lnTo>
                  <a:pt x="1312" y="200"/>
                </a:lnTo>
                <a:lnTo>
                  <a:pt x="1312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0" name=""/>
          <p:cNvGrpSpPr/>
          <p:nvPr/>
        </p:nvGrpSpPr>
        <p:grpSpPr>
          <a:xfrm>
            <a:off x="0" y="4268880"/>
            <a:ext cx="4652640" cy="2966760"/>
            <a:chOff x="0" y="4268880"/>
            <a:chExt cx="4652640" cy="2966760"/>
          </a:xfrm>
        </p:grpSpPr>
        <p:pic>
          <p:nvPicPr>
            <p:cNvPr id="331" name="" descr=""/>
            <p:cNvPicPr/>
            <p:nvPr/>
          </p:nvPicPr>
          <p:blipFill>
            <a:blip r:embed="rId7"/>
            <a:stretch/>
          </p:blipFill>
          <p:spPr>
            <a:xfrm>
              <a:off x="168120" y="4800240"/>
              <a:ext cx="4484520" cy="217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2" name=""/>
            <p:cNvSpPr/>
            <p:nvPr/>
          </p:nvSpPr>
          <p:spPr>
            <a:xfrm>
              <a:off x="2136240" y="6991920"/>
              <a:ext cx="669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 rot="16200000">
              <a:off x="-46080" y="5449320"/>
              <a:ext cx="33552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720800" y="4268880"/>
              <a:ext cx="1844640" cy="30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35" name="" descr=""/>
          <p:cNvPicPr/>
          <p:nvPr/>
        </p:nvPicPr>
        <p:blipFill>
          <a:blip r:embed="rId8"/>
          <a:stretch/>
        </p:blipFill>
        <p:spPr>
          <a:xfrm>
            <a:off x="4438800" y="4773600"/>
            <a:ext cx="4705200" cy="2192400"/>
          </a:xfrm>
          <a:prstGeom prst="rect">
            <a:avLst/>
          </a:prstGeom>
          <a:ln w="0">
            <a:noFill/>
          </a:ln>
        </p:spPr>
      </p:pic>
      <p:pic>
        <p:nvPicPr>
          <p:cNvPr id="336" name="" descr=""/>
          <p:cNvPicPr/>
          <p:nvPr/>
        </p:nvPicPr>
        <p:blipFill>
          <a:blip r:embed="rId9"/>
          <a:stretch/>
        </p:blipFill>
        <p:spPr>
          <a:xfrm>
            <a:off x="5359320" y="1778040"/>
            <a:ext cx="3784680" cy="2840040"/>
          </a:xfrm>
          <a:prstGeom prst="rect">
            <a:avLst/>
          </a:prstGeom>
          <a:ln w="0">
            <a:noFill/>
          </a:ln>
        </p:spPr>
      </p:pic>
      <p:grpSp>
        <p:nvGrpSpPr>
          <p:cNvPr id="337" name=""/>
          <p:cNvGrpSpPr/>
          <p:nvPr/>
        </p:nvGrpSpPr>
        <p:grpSpPr>
          <a:xfrm>
            <a:off x="0" y="1735200"/>
            <a:ext cx="4390560" cy="992160"/>
            <a:chOff x="0" y="1735200"/>
            <a:chExt cx="4390560" cy="992160"/>
          </a:xfrm>
        </p:grpSpPr>
        <p:sp>
          <p:nvSpPr>
            <p:cNvPr id="338" name=""/>
            <p:cNvSpPr/>
            <p:nvPr/>
          </p:nvSpPr>
          <p:spPr>
            <a:xfrm>
              <a:off x="2518920" y="2024280"/>
              <a:ext cx="18716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= Sondenkonstan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 = Off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339" name=""/>
            <p:cNvGraphicFramePr/>
            <p:nvPr/>
          </p:nvGraphicFramePr>
          <p:xfrm>
            <a:off x="0" y="1735200"/>
            <a:ext cx="2300040" cy="99216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340" name="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0" y="1735200"/>
                      <a:ext cx="2300040" cy="992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341" name=""/>
          <p:cNvGraphicFramePr/>
          <p:nvPr/>
        </p:nvGraphicFramePr>
        <p:xfrm>
          <a:off x="484200" y="2940120"/>
          <a:ext cx="2952720" cy="749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342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484200" y="2940120"/>
                    <a:ext cx="295272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ECDB90-86F6-4058-99E1-755B9EFEF0EE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9" dur="500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826920" y="162000"/>
            <a:ext cx="7629840" cy="39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abaaa9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7c1"/>
                </a:solidFill>
                <a:latin typeface="Tahoma"/>
              </a:rPr>
              <a:t>Some Inputs for the tune calculation</a:t>
            </a:r>
            <a:endParaRPr b="0" lang="en-US" sz="2400" spc="-1" strike="noStrike">
              <a:solidFill>
                <a:srgbClr val="0f57c1"/>
              </a:solidFill>
              <a:latin typeface="Tahoma"/>
            </a:endParaRPr>
          </a:p>
        </p:txBody>
      </p:sp>
      <p:pic>
        <p:nvPicPr>
          <p:cNvPr id="344" name="" descr=""/>
          <p:cNvPicPr/>
          <p:nvPr/>
        </p:nvPicPr>
        <p:blipFill>
          <a:blip r:embed="rId1"/>
          <a:stretch/>
        </p:blipFill>
        <p:spPr>
          <a:xfrm>
            <a:off x="0" y="932040"/>
            <a:ext cx="4741920" cy="3489120"/>
          </a:xfrm>
          <a:prstGeom prst="rect">
            <a:avLst/>
          </a:prstGeom>
          <a:ln w="0">
            <a:noFill/>
          </a:ln>
        </p:spPr>
      </p:pic>
      <p:pic>
        <p:nvPicPr>
          <p:cNvPr id="345" name="" descr=""/>
          <p:cNvPicPr/>
          <p:nvPr/>
        </p:nvPicPr>
        <p:blipFill>
          <a:blip r:embed="rId2"/>
          <a:stretch/>
        </p:blipFill>
        <p:spPr>
          <a:xfrm>
            <a:off x="4348080" y="960480"/>
            <a:ext cx="4795920" cy="3468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C74031-6544-4710-BB6B-B941BE250DEA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6920" y="162000"/>
            <a:ext cx="7629840" cy="39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abaaa9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7c1"/>
                </a:solidFill>
                <a:latin typeface="Tahoma"/>
              </a:rPr>
              <a:t>SIS-18 synchrotron at GSI</a:t>
            </a:r>
            <a:endParaRPr b="0" lang="en-US" sz="2400" spc="-1" strike="noStrike">
              <a:solidFill>
                <a:srgbClr val="0f57c1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1057320"/>
            <a:ext cx="5808600" cy="50436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1012680" y="1525680"/>
            <a:ext cx="4094280" cy="42084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366520" y="960480"/>
            <a:ext cx="364464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ortant parameters of SIS-18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ircumferenc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16 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j. typ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tur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ergy rang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1 MeV → 2 Ge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.RF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.8 → 5 MH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cc. harmonic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4 (no. of bunch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Bunching facto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0.6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→ 0.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amp dura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0.3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→ 1.5 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ypical tune h/v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319   3.2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on range (Z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 → 92 (p to U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ign beam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 x 1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¹¹ U 28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1 x 10¹³ 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6394FC-7FDD-435A-906B-1439B38D7BE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" descr=""/>
          <p:cNvPicPr/>
          <p:nvPr/>
        </p:nvPicPr>
        <p:blipFill>
          <a:blip r:embed="rId1"/>
          <a:stretch/>
        </p:blipFill>
        <p:spPr>
          <a:xfrm>
            <a:off x="2540160" y="2540160"/>
            <a:ext cx="126720" cy="126720"/>
          </a:xfrm>
          <a:prstGeom prst="rect">
            <a:avLst/>
          </a:prstGeom>
          <a:ln w="0">
            <a:noFill/>
          </a:ln>
        </p:spPr>
      </p:pic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26920" y="162000"/>
            <a:ext cx="7629840" cy="39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abaaa9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f57c1"/>
                </a:solidFill>
                <a:latin typeface="Tahoma"/>
              </a:rPr>
              <a:t>Outline</a:t>
            </a:r>
            <a:endParaRPr b="0" lang="en-US" sz="2800" spc="-1" strike="noStrike">
              <a:solidFill>
                <a:srgbClr val="0f57c1"/>
              </a:solidFill>
              <a:latin typeface="Tahoma"/>
            </a:endParaRPr>
          </a:p>
        </p:txBody>
      </p:sp>
      <p:sp>
        <p:nvSpPr>
          <p:cNvPr id="348" name=""/>
          <p:cNvSpPr/>
          <p:nvPr/>
        </p:nvSpPr>
        <p:spPr>
          <a:xfrm>
            <a:off x="477720" y="1195560"/>
            <a:ext cx="806472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5840" indent="-285840">
              <a:lnSpc>
                <a:spcPct val="130000"/>
              </a:lnSpc>
              <a:spcBef>
                <a:spcPts val="499"/>
              </a:spcBef>
              <a:buClr>
                <a:srgbClr val="c18e6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rief introduction to accelerators at GSI and motiv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30000"/>
              </a:lnSpc>
              <a:spcBef>
                <a:spcPts val="499"/>
              </a:spcBef>
              <a:buClr>
                <a:srgbClr val="c18e6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Libera position data system for tu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30000"/>
              </a:lnSpc>
              <a:spcBef>
                <a:spcPts val="499"/>
              </a:spcBef>
              <a:buClr>
                <a:srgbClr val="c18e60"/>
              </a:buClr>
              <a:buSzPct val="80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ome resul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190440">
              <a:lnSpc>
                <a:spcPct val="130000"/>
              </a:lnSpc>
              <a:spcBef>
                <a:spcPts val="499"/>
              </a:spcBef>
              <a:buClr>
                <a:srgbClr val="c18e6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ypical position and tune tr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190440">
              <a:lnSpc>
                <a:spcPct val="130000"/>
              </a:lnSpc>
              <a:spcBef>
                <a:spcPts val="499"/>
              </a:spcBef>
              <a:buClr>
                <a:srgbClr val="c18e6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Required excitation level and influence on be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190440">
              <a:lnSpc>
                <a:spcPct val="130000"/>
              </a:lnSpc>
              <a:spcBef>
                <a:spcPts val="499"/>
              </a:spcBef>
              <a:buClr>
                <a:srgbClr val="c18e6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ne accura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30000"/>
              </a:lnSpc>
              <a:spcBef>
                <a:spcPts val="499"/>
              </a:spcBef>
              <a:buClr>
                <a:srgbClr val="c18e6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ummary and outloo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30000"/>
              </a:lnSpc>
              <a:spcBef>
                <a:spcPts val="499"/>
              </a:spcBef>
              <a:buClr>
                <a:srgbClr val="c18e6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8BC937-15DB-4EB3-BBCC-C99DF79D9F32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26920" y="162000"/>
            <a:ext cx="7629840" cy="39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abaaa9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7c1"/>
                </a:solidFill>
                <a:latin typeface="Tahoma"/>
              </a:rPr>
              <a:t>SIS-18 synchrotron at GSI</a:t>
            </a:r>
            <a:endParaRPr b="0" lang="en-US" sz="2400" spc="-1" strike="noStrike">
              <a:solidFill>
                <a:srgbClr val="0f57c1"/>
              </a:solidFill>
              <a:latin typeface="Tahoma"/>
            </a:endParaRPr>
          </a:p>
        </p:txBody>
      </p:sp>
      <p:sp>
        <p:nvSpPr>
          <p:cNvPr id="105" name=""/>
          <p:cNvSpPr/>
          <p:nvPr/>
        </p:nvSpPr>
        <p:spPr>
          <a:xfrm>
            <a:off x="1049400" y="1496880"/>
            <a:ext cx="4094280" cy="42087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1074600"/>
            <a:ext cx="5796000" cy="503244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5366520" y="960480"/>
            <a:ext cx="364464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ortant parameters of SIS-18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ircumferenc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16 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j. typ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tur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ergy rang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1 MeV → 2 Ge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.RF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.8 → 5 MH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cc. harmonic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4 (no. of bunch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Bunching facto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0.6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→ 0.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amp dura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0.3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→ 1.5 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ypical tune h/v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319   3.2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on range (Z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 → 92 (p to U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ign beam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 x 1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¹¹ U 28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1 x 10¹³ 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914400" y="3656160"/>
            <a:ext cx="4245120" cy="216684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914400" y="1581120"/>
            <a:ext cx="4245120" cy="20750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1876320" y="6365880"/>
            <a:ext cx="249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ime span each 2.4 µ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036160" y="1892160"/>
            <a:ext cx="2055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.6 ms after inj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t 0.8 MH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899360" y="4068720"/>
            <a:ext cx="2111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473 ms after inj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t 4.2 MH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8150A3-7D56-4F94-943E-F8075C303A5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26920" y="162000"/>
            <a:ext cx="7629840" cy="39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abaaa9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7c1"/>
                </a:solidFill>
                <a:latin typeface="Tahoma"/>
              </a:rPr>
              <a:t>Motivation</a:t>
            </a:r>
            <a:endParaRPr b="0" lang="en-US" sz="2400" spc="-1" strike="noStrike">
              <a:solidFill>
                <a:srgbClr val="0f57c1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52360" y="1061640"/>
            <a:ext cx="864072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451"/>
              </a:spcBef>
              <a:buClr>
                <a:srgbClr val="c18e6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Necessity of measurement system arises due to upgrade of existing accelerator SIS-18 for higher beam intensities and/for future accelerator(s) in FAIR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spcBef>
                <a:spcPts val="451"/>
              </a:spcBef>
              <a:buClr>
                <a:srgbClr val="c18e6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62120" indent="-190440">
              <a:spcBef>
                <a:spcPts val="400"/>
              </a:spcBef>
              <a:buClr>
                <a:srgbClr val="fcad5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First of all: Single Bunch Position Measurement with a resolution better than 0.1mm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62120" indent="-190440">
              <a:spcBef>
                <a:spcPts val="400"/>
              </a:spcBef>
              <a:buClr>
                <a:srgbClr val="fcad5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BaseBand – q measurement with bright signal intensity in order to use minimal or even no beam excitatio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62120" indent="-190440">
              <a:spcBef>
                <a:spcPts val="400"/>
              </a:spcBef>
              <a:buClr>
                <a:srgbClr val="fcad5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Single bunch separatio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62120" indent="-190440">
              <a:spcBef>
                <a:spcPts val="400"/>
              </a:spcBef>
              <a:buClr>
                <a:srgbClr val="fcad5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Future: (PLL) tune tracking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spcBef>
                <a:spcPts val="451"/>
              </a:spcBef>
              <a:buClr>
                <a:srgbClr val="c18e6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Due to the BPM upgrade process tune can be extracted out of high resolution position da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440C60-77B0-41C0-99AB-F71FA6BAF0B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540160" y="2540160"/>
            <a:ext cx="126720" cy="12672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26920" y="162000"/>
            <a:ext cx="7629840" cy="39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abaaa9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f57c1"/>
                </a:solidFill>
                <a:latin typeface="Tahoma"/>
              </a:rPr>
              <a:t>Outline</a:t>
            </a:r>
            <a:endParaRPr b="0" lang="en-US" sz="2800" spc="-1" strike="noStrike">
              <a:solidFill>
                <a:srgbClr val="0f57c1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477720" y="1195560"/>
            <a:ext cx="806472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5840" indent="-285840">
              <a:lnSpc>
                <a:spcPct val="130000"/>
              </a:lnSpc>
              <a:spcBef>
                <a:spcPts val="499"/>
              </a:spcBef>
              <a:buClr>
                <a:srgbClr val="c18e6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rief introduction to SIS-18 accelerator at GSI and motiv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30000"/>
              </a:lnSpc>
              <a:spcBef>
                <a:spcPts val="499"/>
              </a:spcBef>
              <a:buClr>
                <a:srgbClr val="c18e60"/>
              </a:buClr>
              <a:buSzPct val="80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Libera position data system for tu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190440">
              <a:lnSpc>
                <a:spcPct val="130000"/>
              </a:lnSpc>
              <a:spcBef>
                <a:spcPts val="400"/>
              </a:spcBef>
              <a:buClr>
                <a:srgbClr val="c18e6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System setu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190440">
              <a:lnSpc>
                <a:spcPct val="130000"/>
              </a:lnSpc>
              <a:spcBef>
                <a:spcPts val="400"/>
              </a:spcBef>
              <a:buClr>
                <a:srgbClr val="c18e6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Typical position and tune tra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190440">
              <a:lnSpc>
                <a:spcPct val="130000"/>
              </a:lnSpc>
              <a:spcBef>
                <a:spcPts val="400"/>
              </a:spcBef>
              <a:buClr>
                <a:srgbClr val="c18e6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Required beam exci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30000"/>
              </a:lnSpc>
              <a:spcBef>
                <a:spcPts val="499"/>
              </a:spcBef>
              <a:buClr>
                <a:srgbClr val="c18e6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elected resul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190440">
              <a:lnSpc>
                <a:spcPct val="130000"/>
              </a:lnSpc>
              <a:spcBef>
                <a:spcPts val="400"/>
              </a:spcBef>
              <a:buClr>
                <a:srgbClr val="c18e6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Space charge effe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190440">
              <a:lnSpc>
                <a:spcPct val="130000"/>
              </a:lnSpc>
              <a:spcBef>
                <a:spcPts val="400"/>
              </a:spcBef>
              <a:buClr>
                <a:srgbClr val="c18e6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Using RF for ga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190440">
              <a:lnSpc>
                <a:spcPct val="130000"/>
              </a:lnSpc>
              <a:spcBef>
                <a:spcPts val="400"/>
              </a:spcBef>
              <a:buClr>
                <a:srgbClr val="c18e6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Tune accura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30000"/>
              </a:lnSpc>
              <a:spcBef>
                <a:spcPts val="499"/>
              </a:spcBef>
              <a:buClr>
                <a:srgbClr val="c18e6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ummary and outloo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30000"/>
              </a:lnSpc>
              <a:spcBef>
                <a:spcPts val="499"/>
              </a:spcBef>
              <a:buClr>
                <a:srgbClr val="c18e6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AF5334-8992-47DF-A274-B329322937D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26920" y="162000"/>
            <a:ext cx="7629840" cy="39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abaaa9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7c1"/>
                </a:solidFill>
                <a:latin typeface="Tahoma"/>
              </a:rPr>
              <a:t>What is Libera</a:t>
            </a:r>
            <a:endParaRPr b="0" lang="en-US" sz="2400" spc="-1" strike="noStrike">
              <a:solidFill>
                <a:srgbClr val="0f57c1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52000" y="1061640"/>
            <a:ext cx="424332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400"/>
              </a:spcBef>
              <a:buClr>
                <a:srgbClr val="c18e6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strumentation Technology (I-Tech) – Libera is an integrated setup using a high resolution ADC for onboard data processing on a FPG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spcBef>
                <a:spcPts val="400"/>
              </a:spcBef>
              <a:buClr>
                <a:srgbClr val="c18e6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put actually is one BPM per Libera: 2 channels horizontally and 2 channels verticall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spcBef>
                <a:spcPts val="400"/>
              </a:spcBef>
              <a:buClr>
                <a:srgbClr val="c18e6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ata will be processed online delivering beam position data in packets to CCCP (presently under hard progress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spcBef>
                <a:spcPts val="400"/>
              </a:spcBef>
              <a:buClr>
                <a:srgbClr val="c18e6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 positions and look at periodicities: Frequency spectrum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858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4648320" y="2651040"/>
            <a:ext cx="4244760" cy="2652840"/>
          </a:xfrm>
          <a:prstGeom prst="rect">
            <a:avLst/>
          </a:prstGeom>
          <a:ln w="0">
            <a:noFill/>
          </a:ln>
        </p:spPr>
      </p:pic>
      <p:grpSp>
        <p:nvGrpSpPr>
          <p:cNvPr id="121" name=""/>
          <p:cNvGrpSpPr/>
          <p:nvPr/>
        </p:nvGrpSpPr>
        <p:grpSpPr>
          <a:xfrm>
            <a:off x="952560" y="4594320"/>
            <a:ext cx="6942960" cy="2245680"/>
            <a:chOff x="952560" y="4594320"/>
            <a:chExt cx="6942960" cy="2245680"/>
          </a:xfrm>
        </p:grpSpPr>
        <p:sp>
          <p:nvSpPr>
            <p:cNvPr id="122" name=""/>
            <p:cNvSpPr/>
            <p:nvPr/>
          </p:nvSpPr>
          <p:spPr>
            <a:xfrm>
              <a:off x="2931480" y="4998240"/>
              <a:ext cx="753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imes New Roman"/>
                </a:rPr>
                <a:t>amplifier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3" name=""/>
            <p:cNvGrpSpPr/>
            <p:nvPr/>
          </p:nvGrpSpPr>
          <p:grpSpPr>
            <a:xfrm>
              <a:off x="4488480" y="4832280"/>
              <a:ext cx="1704600" cy="1725120"/>
              <a:chOff x="4488480" y="4832280"/>
              <a:chExt cx="1704600" cy="1725120"/>
            </a:xfrm>
          </p:grpSpPr>
          <p:sp>
            <p:nvSpPr>
              <p:cNvPr id="124" name=""/>
              <p:cNvSpPr/>
              <p:nvPr/>
            </p:nvSpPr>
            <p:spPr>
              <a:xfrm>
                <a:off x="4488480" y="4832280"/>
                <a:ext cx="1704600" cy="1725120"/>
              </a:xfrm>
              <a:prstGeom prst="rect">
                <a:avLst/>
              </a:prstGeom>
              <a:solidFill>
                <a:srgbClr val="cc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5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4488480" y="4832280"/>
                <a:ext cx="1704600" cy="1725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6" name=""/>
              <p:cNvSpPr/>
              <p:nvPr/>
            </p:nvSpPr>
            <p:spPr>
              <a:xfrm>
                <a:off x="4488480" y="4832280"/>
                <a:ext cx="1704600" cy="1725120"/>
              </a:xfrm>
              <a:prstGeom prst="rect">
                <a:avLst/>
              </a:prstGeom>
              <a:solidFill>
                <a:srgbClr val="cc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4488480" y="4832280"/>
                <a:ext cx="1704600" cy="1725120"/>
              </a:xfrm>
              <a:prstGeom prst="rect">
                <a:avLst/>
              </a:prstGeom>
              <a:noFill/>
              <a:ln cap="rnd" w="52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8" name=""/>
            <p:cNvSpPr/>
            <p:nvPr/>
          </p:nvSpPr>
          <p:spPr>
            <a:xfrm>
              <a:off x="4719600" y="5115240"/>
              <a:ext cx="1221120" cy="115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imes New Roman"/>
                </a:rPr>
                <a:t>ADC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imes New Roman"/>
                </a:rPr>
                <a:t>and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imes New Roman"/>
                </a:rPr>
                <a:t>position evaluation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9" name=""/>
            <p:cNvGrpSpPr/>
            <p:nvPr/>
          </p:nvGrpSpPr>
          <p:grpSpPr>
            <a:xfrm>
              <a:off x="6755040" y="5200920"/>
              <a:ext cx="1140480" cy="1057320"/>
              <a:chOff x="6755040" y="5200920"/>
              <a:chExt cx="1140480" cy="1057320"/>
            </a:xfrm>
          </p:grpSpPr>
          <p:sp>
            <p:nvSpPr>
              <p:cNvPr id="130" name=""/>
              <p:cNvSpPr/>
              <p:nvPr/>
            </p:nvSpPr>
            <p:spPr>
              <a:xfrm flipH="1">
                <a:off x="6755040" y="5200920"/>
                <a:ext cx="1140480" cy="1057320"/>
              </a:xfrm>
              <a:prstGeom prst="rect">
                <a:avLst/>
              </a:prstGeom>
              <a:solidFill>
                <a:srgbClr val="cc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31" name="" descr=""/>
              <p:cNvPicPr/>
              <p:nvPr/>
            </p:nvPicPr>
            <p:blipFill>
              <a:blip r:embed="rId3"/>
              <a:stretch/>
            </p:blipFill>
            <p:spPr>
              <a:xfrm flipH="1">
                <a:off x="6755040" y="5200920"/>
                <a:ext cx="1140480" cy="1057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2" name=""/>
              <p:cNvSpPr/>
              <p:nvPr/>
            </p:nvSpPr>
            <p:spPr>
              <a:xfrm flipH="1">
                <a:off x="6755040" y="5200920"/>
                <a:ext cx="1140480" cy="1057320"/>
              </a:xfrm>
              <a:prstGeom prst="rect">
                <a:avLst/>
              </a:prstGeom>
              <a:solidFill>
                <a:srgbClr val="cc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>
                <a:off x="6755040" y="5200920"/>
                <a:ext cx="1140480" cy="1057320"/>
              </a:xfrm>
              <a:prstGeom prst="rect">
                <a:avLst/>
              </a:prstGeom>
              <a:noFill/>
              <a:ln cap="rnd" w="52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 flipH="1">
              <a:off x="6921000" y="5375880"/>
              <a:ext cx="881280" cy="68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imes New Roman"/>
                </a:rPr>
                <a:t>Computer in control room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 rot="5400000">
              <a:off x="2844360" y="4594320"/>
              <a:ext cx="1073880" cy="1073520"/>
            </a:xfrm>
            <a:prstGeom prst="flowChartExtract">
              <a:avLst/>
            </a:prstGeom>
            <a:noFill/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215400" y="5733000"/>
              <a:ext cx="5133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107800" y="5129640"/>
              <a:ext cx="72864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959640" y="5129640"/>
              <a:ext cx="51336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931480" y="6172200"/>
              <a:ext cx="753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imes New Roman"/>
                </a:rPr>
                <a:t>amplifier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rot="5400000">
              <a:off x="2845440" y="5767200"/>
              <a:ext cx="1072080" cy="1073520"/>
            </a:xfrm>
            <a:prstGeom prst="flowChartExtract">
              <a:avLst/>
            </a:prstGeom>
            <a:noFill/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107800" y="6302880"/>
              <a:ext cx="72864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59640" y="6302880"/>
              <a:ext cx="51336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3" name=""/>
            <p:cNvGrpSpPr/>
            <p:nvPr/>
          </p:nvGrpSpPr>
          <p:grpSpPr>
            <a:xfrm>
              <a:off x="952560" y="5117400"/>
              <a:ext cx="1586160" cy="1208160"/>
              <a:chOff x="952560" y="5117400"/>
              <a:chExt cx="1586160" cy="1208160"/>
            </a:xfrm>
          </p:grpSpPr>
          <p:grpSp>
            <p:nvGrpSpPr>
              <p:cNvPr id="144" name=""/>
              <p:cNvGrpSpPr/>
              <p:nvPr/>
            </p:nvGrpSpPr>
            <p:grpSpPr>
              <a:xfrm>
                <a:off x="952560" y="5117400"/>
                <a:ext cx="1586160" cy="1208160"/>
                <a:chOff x="952560" y="5117400"/>
                <a:chExt cx="1586160" cy="1208160"/>
              </a:xfrm>
            </p:grpSpPr>
            <p:sp>
              <p:nvSpPr>
                <p:cNvPr id="145" name=""/>
                <p:cNvSpPr/>
                <p:nvPr/>
              </p:nvSpPr>
              <p:spPr>
                <a:xfrm>
                  <a:off x="952560" y="5535720"/>
                  <a:ext cx="61200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938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500" spc="-1" strike="noStrike">
                      <a:solidFill>
                        <a:srgbClr val="000000"/>
                      </a:solidFill>
                      <a:latin typeface="Times New Roman"/>
                    </a:rPr>
                    <a:t>pick up</a:t>
                  </a:r>
                  <a:endParaRPr b="0" lang="en-US" sz="1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46" name=""/>
                <p:cNvGrpSpPr/>
                <p:nvPr/>
              </p:nvGrpSpPr>
              <p:grpSpPr>
                <a:xfrm>
                  <a:off x="1695600" y="5117400"/>
                  <a:ext cx="843120" cy="1208160"/>
                  <a:chOff x="1695600" y="5117400"/>
                  <a:chExt cx="843120" cy="1208160"/>
                </a:xfrm>
              </p:grpSpPr>
              <p:sp>
                <p:nvSpPr>
                  <p:cNvPr id="147" name=""/>
                  <p:cNvSpPr/>
                  <p:nvPr/>
                </p:nvSpPr>
                <p:spPr>
                  <a:xfrm>
                    <a:off x="1695600" y="5299200"/>
                    <a:ext cx="843120" cy="843480"/>
                  </a:xfrm>
                  <a:prstGeom prst="ellipse">
                    <a:avLst/>
                  </a:prstGeom>
                  <a:noFill/>
                  <a:ln w="381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48" name=""/>
                  <p:cNvGrpSpPr/>
                  <p:nvPr/>
                </p:nvGrpSpPr>
                <p:grpSpPr>
                  <a:xfrm>
                    <a:off x="1981080" y="5117400"/>
                    <a:ext cx="271800" cy="409320"/>
                    <a:chOff x="1981080" y="5117400"/>
                    <a:chExt cx="271800" cy="409320"/>
                  </a:xfrm>
                </p:grpSpPr>
                <p:sp>
                  <p:nvSpPr>
                    <p:cNvPr id="149" name=""/>
                    <p:cNvSpPr/>
                    <p:nvPr/>
                  </p:nvSpPr>
                  <p:spPr>
                    <a:xfrm>
                      <a:off x="2116800" y="5117400"/>
                      <a:ext cx="0" cy="409320"/>
                    </a:xfrm>
                    <a:prstGeom prst="line">
                      <a:avLst/>
                    </a:prstGeom>
                    <a:ln w="381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0" name=""/>
                    <p:cNvSpPr/>
                    <p:nvPr/>
                  </p:nvSpPr>
                  <p:spPr>
                    <a:xfrm>
                      <a:off x="1981080" y="5515560"/>
                      <a:ext cx="271800" cy="0"/>
                    </a:xfrm>
                    <a:prstGeom prst="line">
                      <a:avLst/>
                    </a:prstGeom>
                    <a:ln w="381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1" name=""/>
                  <p:cNvGrpSpPr/>
                  <p:nvPr/>
                </p:nvGrpSpPr>
                <p:grpSpPr>
                  <a:xfrm>
                    <a:off x="1981080" y="5915880"/>
                    <a:ext cx="271800" cy="409680"/>
                    <a:chOff x="1981080" y="5915880"/>
                    <a:chExt cx="271800" cy="409680"/>
                  </a:xfrm>
                </p:grpSpPr>
                <p:sp>
                  <p:nvSpPr>
                    <p:cNvPr id="152" name=""/>
                    <p:cNvSpPr/>
                    <p:nvPr/>
                  </p:nvSpPr>
                  <p:spPr>
                    <a:xfrm flipV="1">
                      <a:off x="2116800" y="5915880"/>
                      <a:ext cx="0" cy="409680"/>
                    </a:xfrm>
                    <a:prstGeom prst="line">
                      <a:avLst/>
                    </a:prstGeom>
                    <a:ln w="381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3" name=""/>
                    <p:cNvSpPr/>
                    <p:nvPr/>
                  </p:nvSpPr>
                  <p:spPr>
                    <a:xfrm>
                      <a:off x="1981080" y="5927040"/>
                      <a:ext cx="271800" cy="0"/>
                    </a:xfrm>
                    <a:prstGeom prst="line">
                      <a:avLst/>
                    </a:prstGeom>
                    <a:ln w="381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154" name=""/>
              <p:cNvSpPr/>
              <p:nvPr/>
            </p:nvSpPr>
            <p:spPr>
              <a:xfrm>
                <a:off x="2027520" y="5686920"/>
                <a:ext cx="123120" cy="123120"/>
              </a:xfrm>
              <a:prstGeom prst="ellipse">
                <a:avLst/>
              </a:prstGeom>
              <a:solidFill>
                <a:srgbClr val="ff0000"/>
              </a:solidFill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320" bIns="40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5" name=""/>
          <p:cNvSpPr/>
          <p:nvPr/>
        </p:nvSpPr>
        <p:spPr>
          <a:xfrm flipH="1">
            <a:off x="5413320" y="3886200"/>
            <a:ext cx="550800" cy="811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676120" y="1465200"/>
            <a:ext cx="3263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 channel AD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25 MSa / s per chann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4 bit resolution (11 bit effectivel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56 Mb onboard memo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0EF143-C41E-4F69-AA8D-6F9205BF631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26920" y="162000"/>
            <a:ext cx="7629840" cy="39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abaaa9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7c1"/>
                </a:solidFill>
                <a:latin typeface="Tahoma"/>
              </a:rPr>
              <a:t>What is tune</a:t>
            </a:r>
            <a:endParaRPr b="0" lang="en-US" sz="2400" spc="-1" strike="noStrike">
              <a:solidFill>
                <a:srgbClr val="0f57c1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4570560" y="868320"/>
            <a:ext cx="4546440" cy="359748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0" y="906480"/>
            <a:ext cx="4245120" cy="225756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1001520" y="3971880"/>
            <a:ext cx="7296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achine intrinsic value: characteristic frequency of the Magnet Latt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(given by the strength of the quadrupole magnet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une should always have a fractional part because of resona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his fractional part can be measured only! (due to undersampli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n be excited directly for measuring purp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B55A93-A053-4AE0-87CB-22BE5F90C4B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26920" y="162000"/>
            <a:ext cx="7629840" cy="39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abaaa9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57c1"/>
                </a:solidFill>
                <a:latin typeface="Tahoma"/>
              </a:rPr>
              <a:t>Motivation for digital measuring method</a:t>
            </a:r>
            <a:endParaRPr b="0" lang="en-US" sz="2800" spc="-1" strike="noStrike">
              <a:solidFill>
                <a:srgbClr val="0f57c1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52360" y="927000"/>
            <a:ext cx="8640720" cy="605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451"/>
              </a:spcBef>
              <a:buClr>
                <a:srgbClr val="c18e6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ne point per integrated bunch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spcBef>
                <a:spcPts val="451"/>
              </a:spcBef>
              <a:buClr>
                <a:srgbClr val="c18e6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&gt; shift of all tune frequencies to baseband due to bunch-wise “sampling rate”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spcBef>
                <a:spcPts val="451"/>
              </a:spcBef>
              <a:buClr>
                <a:srgbClr val="c18e6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r digital method bunching factor, baseline shift and frequency range is no problem due to digital data treatm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spcBef>
                <a:spcPts val="451"/>
              </a:spcBef>
              <a:buClr>
                <a:srgbClr val="c18e6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veraging noise power (thermal noise and digitization noise) by factor of 500 thanks to integration of bunch data (Frequency range 50 MHz -&gt; 100-500 kHz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This alone means increase in S/N of position data by 27 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spcBef>
                <a:spcPts val="451"/>
              </a:spcBef>
              <a:buClr>
                <a:srgbClr val="c18e6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unch tracing and Bunch-wise tune separation by softwar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858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8584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What is needed for position calculation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spcBef>
                <a:spcPts val="451"/>
              </a:spcBef>
              <a:buClr>
                <a:srgbClr val="c18e6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indowing data stream for bunch integr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spcBef>
                <a:spcPts val="451"/>
              </a:spcBef>
              <a:buClr>
                <a:srgbClr val="c18e6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seline restoring (due to AC coupling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spcBef>
                <a:spcPts val="451"/>
              </a:spcBef>
              <a:buClr>
                <a:srgbClr val="c18e6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mple mathematics: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1341360" y="5548320"/>
            <a:ext cx="4391280" cy="992160"/>
            <a:chOff x="1341360" y="5548320"/>
            <a:chExt cx="4391280" cy="992160"/>
          </a:xfrm>
        </p:grpSpPr>
        <p:sp>
          <p:nvSpPr>
            <p:cNvPr id="164" name=""/>
            <p:cNvSpPr/>
            <p:nvPr/>
          </p:nvSpPr>
          <p:spPr>
            <a:xfrm>
              <a:off x="3860640" y="5837400"/>
              <a:ext cx="187200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= Sondenkonstan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 = Off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65" name=""/>
            <p:cNvGraphicFramePr/>
            <p:nvPr/>
          </p:nvGraphicFramePr>
          <p:xfrm>
            <a:off x="1341360" y="5548320"/>
            <a:ext cx="2300400" cy="9921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6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341360" y="5548320"/>
                      <a:ext cx="2300400" cy="992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FA7743-4E26-4D74-8FAC-D13F6CFA2FB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8T18:00:38Z</dcterms:created>
  <dc:creator> </dc:creator>
  <dc:description/>
  <dc:language>en-US</dc:language>
  <cp:lastModifiedBy>urauch</cp:lastModifiedBy>
  <dcterms:modified xsi:type="dcterms:W3CDTF">2009-11-05T01:10:50Z</dcterms:modified>
  <cp:revision>1055</cp:revision>
  <dc:subject/>
  <dc:title>PowerPoint-Prä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208603011</vt:r8>
  </property>
  <property fmtid="{D5CDD505-2E9C-101B-9397-08002B2CF9AE}" pid="3" name="_AuthorEmail">
    <vt:lpwstr>U.Rauch@gsi.de</vt:lpwstr>
  </property>
  <property fmtid="{D5CDD505-2E9C-101B-9397-08002B2CF9AE}" pid="4" name="_AuthorEmailDisplayName">
    <vt:lpwstr>Springer, Udo</vt:lpwstr>
  </property>
  <property fmtid="{D5CDD505-2E9C-101B-9397-08002B2CF9AE}" pid="5" name="_EmailSubject">
    <vt:lpwstr>Seminarvortrag</vt:lpwstr>
  </property>
</Properties>
</file>